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26.png" ContentType="image/png"/>
  <Override PartName="/ppt/media/image17.jpeg" ContentType="image/jpeg"/>
  <Override PartName="/ppt/media/image11.wmf" ContentType="image/x-wmf"/>
  <Override PartName="/ppt/media/image32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2.png" ContentType="image/png"/>
  <Override PartName="/ppt/media/image25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3F97-99C8-4C6D-9EAD-B20564BA9C6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81BE-8AC7-47DC-A8B9-F4A437E1E2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we define gather samples, which are distributed throughout the sc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we will gather illumination fr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gather samples are everywhere, not just in visible part of the scene, because the illumination could potentially come from any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transfer matrix def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element at position I, j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contribution of gather sample j to view samp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t is not just the direct contribution, but an integral over many possible pa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need an algorithm to compute direct illumination on both gather and view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is can be done very efficiently using known techniques –shaders and shadow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igh-level overview of the system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mpute direct illumination on gather sampl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it by the transfer matrix to get indirect on view sampl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compute direct on view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ombine these into the final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fer matrix is very big and hard to precompute, store and multiply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why is the precomputation difficult, and how we handle the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rix is so hard to precompute for 2 reasons: first, it is hu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over, each element is an integral over an infinite number of pa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ay to put i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could theoretically use your favorite global illumination algorithm to compute 64k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at’s clearly not prac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ution is to split the transfer matrix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full transfer matrix represents many gather-to-view pa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-bounce matrix represents many gather-to-gather path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 final gather matrix represents only one gather to view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is that approximations in the multi-bounce matrix have only a small impact on the quality of the final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ment of the final gather matrix at position I, j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just the single-bounce contribution of gather sample j to view samp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tandard direct lighting computation between too points, which is easy to calcu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hat is the elemen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contribution of gather sample j to gather sample i over many different pa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ems equally difficult as before, but we can efficiently compute a sparse approximation of this matrix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variation of the photon mapping algorith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use photon mapping directly, because we don’t know the light position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lso, we want to compute the whole matrix, not just a single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can shoot photons from gather samples inste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ake sure each photon remembers which sample it comes fr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ind of like having 64k point ligh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nematic relighting algorithms greatly simplify the work of lighting design artis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n interactively test many different lighting configurations to find the right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support interactive light movement with procedural light shaders and different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do not support indirect illumination, which is increasingly becoming common in the cinematic dom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our goal is to extend these systems with multiple bounces of indirect illumi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t this point we have a solution that’s at least feasi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et’s look at how to make it more efficient by compressing the mat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ould like to use a well established wavelet-based approach, howev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only have an unstructured cloud of gather samples with no obvious way to impose a wavelet ba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t can be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see how to flatten the gather samples into a 2D array such that coherence is sufficiently p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can use wavelets in the arr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illustrates the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structured gather cloud gets flattened into a 256 x 256 array, preserving enough coh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can use standard Haar wavelets on this array to gain spa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flattening d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ke our gather cloud and subdivide it into 4 coherent clus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subdivide those clusters in the same way and continue recursive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quence of splits into clusters can be visualized as a tre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af nodes are the gather sampl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each inner node has exactly 4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ree implicitly defines the flattening into the 2D arr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the rows of our matrices are vectors that “live” on yhe gather clou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can transform the rows into wavelet space and remove small coeffic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roach turns the dense final gather matrix into a sparse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-bounce matrix is already sparse, however, the wavelet compression makes it even more spa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teresting observation about this compressed, sparse matrix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mages are mostly sparse, except for the few leftmost colum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over, the non-zero elements tend to cluster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lso true for the columns of the multi-bounce matrix, transformed into wave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is is how our system works, including the wavelet com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three operations that we repeatedly us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direct illumination on a set of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avelet pro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Sparse matrix-vector multi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illumination and wavelet projection are straightforward, s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approach we assume that direct illumination can be handled by standard GPU techniques like deep frame buffers and shadow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we can concentrate on computing the indirect illumi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key idea is that we can precompute the transfer matrix that map direct illumination to indir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the matrix, we can compute direct illumination, multiply by the matrix to get indirect, and combine with direct to get the final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ee how to efficiently evaluate the sparse matrix-vector multiplication on the G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sparse vector, let’s say it has only 3 non-zero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ake the columns corresponding to these 3 eleme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ompute a linear combination of the columns, scaled by th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note that the columns are themselves sparse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isualization of the sparsity patt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we need an efficent representation of these columns on the G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as you can see on the right, the non-zeros in the column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ut out rectangular blocks from these images, trying to minimize was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ck these blocks into texture atl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converted the problem into simple linear blending of rect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’s look at some results of our algorith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till life sce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 by a procedural light sha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part of the scene is lit by detailed, purely indirect illumi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rect shadows and glossy reflections remain sharp and accu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gorithm also nicely handles bump maps, and complex geometry on the plant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fer data has been precomputed in 1.6 h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le is our largest scene, with over 2 million polyg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our algorithm is not very sensitive to the increase in geo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computation took only 2.5 hou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 frame-rates are similar to the previous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cene shows complex geometry concentrated in a small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we use the Sponza as a common benchmark scene for comparison with other algorith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cene is purely diffuse and not very complex in terms of polygon count, and so it presents an easy case for ou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a comparison of our relighting algorithm to a Monte Carlo path tra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image is lit by purely indirect illumination from a strong spotlight o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is is actually a pretty difficult case for comparison -  but our system is still doing quite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extend cinematic relighting to support indirect illumination, by efficiently precomputing and compressing the transfe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ystem achieves interactive performance on high complexity scen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supporting arbitrary direct illumination expressible as light sha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have preliminary support for environment maps in ou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orks by considering environment samples as gather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ould also like to explore subsurface scattering and camera mov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lready mentioned one area of related work: the cinematic relighting engines, which support only direct illumination or aren’t inter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area of research is precomputed radiance transfer, which can support indirect illumination, but does not handle truly local ligh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approach to relighting is to precompute or capture a set of complete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reate new lighting configurations as linear combinations of the precomputed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space of possible illuminations is generally too large to handle arbitrary lighting in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arse sampling and reconstruction work generally assumes high spatial and temporal coherence in the illuminatio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accuracy of these systems is generally not as high as required by cinematic religh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archical and instant radiosity methods could be used for relighting purposes in various way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e found the performance and accuracy of these methods not as hi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my talk will be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I’ll introduce key concep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look at how to make the system practical by addressing the transfer matrix precomputation, storage and evaluation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I’ll show our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key concept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ew samples that are directly visi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ther samples distributed around the sc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 transfer matrix that contain the contributions of all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let’s look at these key concepts in more de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 simple 2d scene with a fixed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fine view sample in the part of the scene directly visible from the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system they correspond to pixels of the frame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interested in computing both direct and indirect illumination on these view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8415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7760" y="4277160"/>
            <a:ext cx="8415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840" y="18093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7760" y="42771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840" y="42771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2709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840" y="1809360"/>
            <a:ext cx="2709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8280" y="1809360"/>
            <a:ext cx="2709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7760" y="4277160"/>
            <a:ext cx="2709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840" y="4277160"/>
            <a:ext cx="2709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8280" y="4277160"/>
            <a:ext cx="2709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7760" y="1809360"/>
            <a:ext cx="8415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8415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4106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840" y="1809360"/>
            <a:ext cx="4106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501480"/>
            <a:ext cx="685800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840" y="1809360"/>
            <a:ext cx="4106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7760" y="42771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4106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840" y="18093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840" y="42771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840" y="18093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7760" y="4277160"/>
            <a:ext cx="8415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7156440" y="457200"/>
            <a:ext cx="1600200" cy="93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7760" y="1809360"/>
            <a:ext cx="8415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c1bc7b"/>
              </a:buClr>
              <a:buSzPct val="11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c1bc7b"/>
              </a:buClr>
              <a:buSzPct val="11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20"/>
          <p:cNvSpPr/>
          <p:nvPr/>
        </p:nvSpPr>
        <p:spPr>
          <a:xfrm>
            <a:off x="304920" y="1676520"/>
            <a:ext cx="8458200" cy="0"/>
          </a:xfrm>
          <a:prstGeom prst="line">
            <a:avLst/>
          </a:prstGeom>
          <a:ln cap="rnd" w="25560">
            <a:solidFill>
              <a:srgbClr val="00583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159680" y="457200"/>
            <a:ext cx="1600200" cy="932040"/>
          </a:xfrm>
          <a:prstGeom prst="rect">
            <a:avLst/>
          </a:prstGeom>
          <a:ln w="0">
            <a:noFill/>
          </a:ln>
        </p:spPr>
      </p:pic>
      <p:sp>
        <p:nvSpPr>
          <p:cNvPr id="5" name="Line 20"/>
          <p:cNvSpPr/>
          <p:nvPr/>
        </p:nvSpPr>
        <p:spPr>
          <a:xfrm>
            <a:off x="311040" y="1679400"/>
            <a:ext cx="8458200" cy="0"/>
          </a:xfrm>
          <a:prstGeom prst="line">
            <a:avLst/>
          </a:prstGeom>
          <a:ln cap="rnd" w="25560">
            <a:solidFill>
              <a:srgbClr val="00473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jpeg"/><Relationship Id="rId3" Type="http://schemas.openxmlformats.org/officeDocument/2006/relationships/image" Target="../media/image16.jpeg"/><Relationship Id="rId4" Type="http://schemas.openxmlformats.org/officeDocument/2006/relationships/image" Target="../media/image21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irect-to-Indirect Transfer for Cinematic Relighting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os Hasa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Cornell Univers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bio Pellacini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Dartmouth Colle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vita Ba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Cornell Univers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53200" y="380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000160" y="3808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676680" y="3808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ather Sampl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828800"/>
            <a:ext cx="6858000" cy="4892760"/>
          </a:xfrm>
          <a:custGeom>
            <a:avLst/>
            <a:gdLst/>
            <a:ahLst/>
            <a:rect l="l" t="t" r="r" b="b"/>
            <a:pathLst>
              <a:path w="4320" h="3082">
                <a:moveTo>
                  <a:pt x="447" y="1200"/>
                </a:moveTo>
                <a:cubicBezTo>
                  <a:pt x="691" y="941"/>
                  <a:pt x="1179" y="65"/>
                  <a:pt x="1484" y="32"/>
                </a:cubicBezTo>
                <a:cubicBezTo>
                  <a:pt x="1789" y="0"/>
                  <a:pt x="1992" y="984"/>
                  <a:pt x="2277" y="1006"/>
                </a:cubicBezTo>
                <a:cubicBezTo>
                  <a:pt x="2562" y="1027"/>
                  <a:pt x="2856" y="65"/>
                  <a:pt x="3192" y="162"/>
                </a:cubicBezTo>
                <a:cubicBezTo>
                  <a:pt x="3527" y="259"/>
                  <a:pt x="4320" y="1243"/>
                  <a:pt x="4290" y="1589"/>
                </a:cubicBezTo>
                <a:cubicBezTo>
                  <a:pt x="4259" y="1935"/>
                  <a:pt x="3110" y="2054"/>
                  <a:pt x="3009" y="2238"/>
                </a:cubicBezTo>
                <a:cubicBezTo>
                  <a:pt x="2907" y="2422"/>
                  <a:pt x="3913" y="2573"/>
                  <a:pt x="3680" y="2692"/>
                </a:cubicBezTo>
                <a:cubicBezTo>
                  <a:pt x="3446" y="2811"/>
                  <a:pt x="2001" y="3082"/>
                  <a:pt x="1606" y="2952"/>
                </a:cubicBezTo>
                <a:cubicBezTo>
                  <a:pt x="1211" y="2822"/>
                  <a:pt x="1481" y="2042"/>
                  <a:pt x="1308" y="1912"/>
                </a:cubicBezTo>
                <a:cubicBezTo>
                  <a:pt x="1135" y="1782"/>
                  <a:pt x="784" y="2227"/>
                  <a:pt x="569" y="2173"/>
                </a:cubicBezTo>
                <a:cubicBezTo>
                  <a:pt x="354" y="2119"/>
                  <a:pt x="41" y="1752"/>
                  <a:pt x="20" y="1589"/>
                </a:cubicBezTo>
                <a:cubicBezTo>
                  <a:pt x="0" y="1427"/>
                  <a:pt x="203" y="1460"/>
                  <a:pt x="447" y="1200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5867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ene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6680" y="52578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1377400">
            <a:off x="4721040" y="6461280"/>
            <a:ext cx="30456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855680" y="6183360"/>
            <a:ext cx="27000" cy="33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0809800">
            <a:off x="5638680" y="6324120"/>
            <a:ext cx="30492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5707080" y="6070320"/>
            <a:ext cx="80280" cy="326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839200">
            <a:off x="6616800" y="4954320"/>
            <a:ext cx="30456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660360" y="4690800"/>
            <a:ext cx="109080" cy="333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5200">
            <a:off x="3809520" y="6476760"/>
            <a:ext cx="30492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967200" y="6207840"/>
            <a:ext cx="16920" cy="335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9752000">
            <a:off x="2514240" y="4952520"/>
            <a:ext cx="30492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488320" y="4728960"/>
            <a:ext cx="174960" cy="287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031600">
            <a:off x="3200040" y="5638680"/>
            <a:ext cx="30456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352680" y="5670000"/>
            <a:ext cx="333720" cy="39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367400">
            <a:off x="7667280" y="4495320"/>
            <a:ext cx="30492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7605720" y="4302000"/>
            <a:ext cx="207000" cy="264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1880600">
            <a:off x="6324120" y="5685840"/>
            <a:ext cx="30492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350760" y="5763960"/>
            <a:ext cx="131760" cy="31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4499000">
            <a:off x="4114440" y="2818800"/>
            <a:ext cx="30492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947400" y="2886840"/>
            <a:ext cx="312480" cy="142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3352320" y="1828440"/>
            <a:ext cx="30492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1904400"/>
            <a:ext cx="0" cy="31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3861800">
            <a:off x="7543800" y="3581280"/>
            <a:ext cx="30456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421760" y="3657960"/>
            <a:ext cx="278280" cy="20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3647000">
            <a:off x="6781320" y="2590200"/>
            <a:ext cx="30492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667920" y="2657160"/>
            <a:ext cx="262800" cy="22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734200">
            <a:off x="1428480" y="4895640"/>
            <a:ext cx="30492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582200" y="4731480"/>
            <a:ext cx="271080" cy="237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88200">
            <a:off x="2561400" y="2514240"/>
            <a:ext cx="30492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5400" y="2598840"/>
            <a:ext cx="269280" cy="204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8107200">
            <a:off x="1828440" y="3504960"/>
            <a:ext cx="30492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7840" y="3581280"/>
            <a:ext cx="254520" cy="22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8107200">
            <a:off x="5637960" y="2209680"/>
            <a:ext cx="30492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87720" y="2285640"/>
            <a:ext cx="255240" cy="22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8107200">
            <a:off x="4915080" y="3200040"/>
            <a:ext cx="30456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63760" y="3276360"/>
            <a:ext cx="255240" cy="22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4054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 sample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895480" y="350496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334120" y="3580920"/>
            <a:ext cx="12189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50292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nsfer Matrix El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828800"/>
            <a:ext cx="6858000" cy="4892760"/>
          </a:xfrm>
          <a:custGeom>
            <a:avLst/>
            <a:gdLst/>
            <a:ahLst/>
            <a:rect l="l" t="t" r="r" b="b"/>
            <a:pathLst>
              <a:path w="4320" h="3082">
                <a:moveTo>
                  <a:pt x="447" y="1200"/>
                </a:moveTo>
                <a:cubicBezTo>
                  <a:pt x="691" y="941"/>
                  <a:pt x="1179" y="65"/>
                  <a:pt x="1484" y="32"/>
                </a:cubicBezTo>
                <a:cubicBezTo>
                  <a:pt x="1789" y="0"/>
                  <a:pt x="1992" y="984"/>
                  <a:pt x="2277" y="1006"/>
                </a:cubicBezTo>
                <a:cubicBezTo>
                  <a:pt x="2562" y="1027"/>
                  <a:pt x="2856" y="65"/>
                  <a:pt x="3192" y="162"/>
                </a:cubicBezTo>
                <a:cubicBezTo>
                  <a:pt x="3527" y="259"/>
                  <a:pt x="4320" y="1243"/>
                  <a:pt x="4290" y="1589"/>
                </a:cubicBezTo>
                <a:cubicBezTo>
                  <a:pt x="4259" y="1935"/>
                  <a:pt x="3110" y="2054"/>
                  <a:pt x="3009" y="2238"/>
                </a:cubicBezTo>
                <a:cubicBezTo>
                  <a:pt x="2907" y="2422"/>
                  <a:pt x="3913" y="2573"/>
                  <a:pt x="3680" y="2692"/>
                </a:cubicBezTo>
                <a:cubicBezTo>
                  <a:pt x="3446" y="2811"/>
                  <a:pt x="2001" y="3082"/>
                  <a:pt x="1606" y="2952"/>
                </a:cubicBezTo>
                <a:cubicBezTo>
                  <a:pt x="1211" y="2822"/>
                  <a:pt x="1481" y="2042"/>
                  <a:pt x="1308" y="1912"/>
                </a:cubicBezTo>
                <a:cubicBezTo>
                  <a:pt x="1135" y="1782"/>
                  <a:pt x="784" y="2227"/>
                  <a:pt x="569" y="2173"/>
                </a:cubicBezTo>
                <a:cubicBezTo>
                  <a:pt x="354" y="2119"/>
                  <a:pt x="41" y="1752"/>
                  <a:pt x="20" y="1589"/>
                </a:cubicBezTo>
                <a:cubicBezTo>
                  <a:pt x="0" y="1427"/>
                  <a:pt x="203" y="1460"/>
                  <a:pt x="447" y="1200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7888200">
            <a:off x="2561400" y="2514240"/>
            <a:ext cx="304920" cy="15228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5400" y="2598840"/>
            <a:ext cx="269280" cy="204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1308400">
            <a:off x="5262480" y="6373800"/>
            <a:ext cx="30492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395680" y="6105600"/>
            <a:ext cx="37800" cy="33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2590920"/>
            <a:ext cx="2666880" cy="3886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2590920"/>
            <a:ext cx="1828800" cy="761760"/>
          </a:xfrm>
          <a:prstGeom prst="line">
            <a:avLst/>
          </a:prstGeom>
          <a:ln w="38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3352680"/>
            <a:ext cx="838080" cy="3124440"/>
          </a:xfrm>
          <a:prstGeom prst="line">
            <a:avLst/>
          </a:prstGeom>
          <a:ln w="38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2590920"/>
            <a:ext cx="3276720" cy="2666880"/>
          </a:xfrm>
          <a:prstGeom prst="line">
            <a:avLst/>
          </a:prstGeom>
          <a:ln w="381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352320" y="5257800"/>
            <a:ext cx="2667240" cy="0"/>
          </a:xfrm>
          <a:prstGeom prst="line">
            <a:avLst/>
          </a:prstGeom>
          <a:ln w="381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5257800"/>
            <a:ext cx="2057400" cy="1219320"/>
          </a:xfrm>
          <a:prstGeom prst="line">
            <a:avLst/>
          </a:prstGeom>
          <a:ln w="381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828800"/>
            <a:ext cx="1524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??</a:t>
            </a:r>
            <a:endParaRPr b="0" lang="en-US" sz="32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8195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ther sample j</a:t>
            </a:r>
            <a:endParaRPr b="0" lang="en-US" sz="20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60040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 sample i</a:t>
            </a:r>
            <a:endParaRPr b="0" lang="en-US" sz="20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828800" y="2666880"/>
            <a:ext cx="60948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095880" y="64771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irect Illuminat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3200400"/>
            <a:ext cx="3886200" cy="2971800"/>
            <a:chOff x="457200" y="3200400"/>
            <a:chExt cx="3886200" cy="2971800"/>
          </a:xfrm>
        </p:grpSpPr>
        <p:sp>
          <p:nvSpPr>
            <p:cNvPr id="175" name=""/>
            <p:cNvSpPr/>
            <p:nvPr/>
          </p:nvSpPr>
          <p:spPr>
            <a:xfrm>
              <a:off x="457200" y="3200400"/>
              <a:ext cx="3886200" cy="2971800"/>
            </a:xfrm>
            <a:custGeom>
              <a:avLst/>
              <a:gdLst/>
              <a:ahLst/>
              <a:rect l="l" t="t" r="r" b="b"/>
              <a:pathLst>
                <a:path w="4320" h="3082">
                  <a:moveTo>
                    <a:pt x="447" y="1200"/>
                  </a:moveTo>
                  <a:cubicBezTo>
                    <a:pt x="691" y="941"/>
                    <a:pt x="1179" y="65"/>
                    <a:pt x="1484" y="32"/>
                  </a:cubicBezTo>
                  <a:cubicBezTo>
                    <a:pt x="1789" y="0"/>
                    <a:pt x="1992" y="984"/>
                    <a:pt x="2277" y="1006"/>
                  </a:cubicBezTo>
                  <a:cubicBezTo>
                    <a:pt x="2562" y="1027"/>
                    <a:pt x="2856" y="65"/>
                    <a:pt x="3192" y="162"/>
                  </a:cubicBezTo>
                  <a:cubicBezTo>
                    <a:pt x="3527" y="259"/>
                    <a:pt x="4320" y="1243"/>
                    <a:pt x="4290" y="1589"/>
                  </a:cubicBezTo>
                  <a:cubicBezTo>
                    <a:pt x="4259" y="1935"/>
                    <a:pt x="3110" y="2054"/>
                    <a:pt x="3009" y="2238"/>
                  </a:cubicBezTo>
                  <a:cubicBezTo>
                    <a:pt x="2907" y="2422"/>
                    <a:pt x="3913" y="2573"/>
                    <a:pt x="3680" y="2692"/>
                  </a:cubicBezTo>
                  <a:cubicBezTo>
                    <a:pt x="3446" y="2811"/>
                    <a:pt x="2001" y="3082"/>
                    <a:pt x="1606" y="2952"/>
                  </a:cubicBezTo>
                  <a:cubicBezTo>
                    <a:pt x="1211" y="2822"/>
                    <a:pt x="1481" y="2042"/>
                    <a:pt x="1308" y="1912"/>
                  </a:cubicBezTo>
                  <a:cubicBezTo>
                    <a:pt x="1135" y="1782"/>
                    <a:pt x="784" y="2227"/>
                    <a:pt x="569" y="2173"/>
                  </a:cubicBezTo>
                  <a:cubicBezTo>
                    <a:pt x="354" y="2119"/>
                    <a:pt x="41" y="1752"/>
                    <a:pt x="20" y="1589"/>
                  </a:cubicBezTo>
                  <a:cubicBezTo>
                    <a:pt x="0" y="1427"/>
                    <a:pt x="203" y="1460"/>
                    <a:pt x="447" y="1200"/>
                  </a:cubicBezTo>
                  <a:close/>
                </a:path>
              </a:pathLst>
            </a:custGeom>
            <a:noFill/>
            <a:ln w="38160">
              <a:solidFill>
                <a:srgbClr val="c1bc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1377400">
              <a:off x="2484720" y="6014520"/>
              <a:ext cx="172800" cy="9180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2561400" y="5844960"/>
              <a:ext cx="1512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809800">
              <a:off x="3005280" y="5931720"/>
              <a:ext cx="172440" cy="928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3042360" y="5776200"/>
              <a:ext cx="47520" cy="1983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839200">
              <a:off x="3558600" y="5099040"/>
              <a:ext cx="172440" cy="928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582720" y="4938840"/>
              <a:ext cx="63000" cy="20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5200">
              <a:off x="1967760" y="6024600"/>
              <a:ext cx="172440" cy="914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057040" y="5861160"/>
              <a:ext cx="1152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9752000">
              <a:off x="1234080" y="5097240"/>
              <a:ext cx="172440" cy="932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1216800" y="4960800"/>
              <a:ext cx="10512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031600">
              <a:off x="1616760" y="5518080"/>
              <a:ext cx="184680" cy="853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710000" y="5533560"/>
              <a:ext cx="188640" cy="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9367400">
              <a:off x="4155120" y="4820400"/>
              <a:ext cx="172440" cy="914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4115880" y="4702320"/>
              <a:ext cx="124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1880600">
              <a:off x="3393000" y="5543280"/>
              <a:ext cx="172440" cy="928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405240" y="5591160"/>
              <a:ext cx="81720" cy="19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99000">
              <a:off x="2134800" y="3804480"/>
              <a:ext cx="184320" cy="867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046240" y="3844440"/>
              <a:ext cx="176040" cy="8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0800000">
              <a:off x="1709280" y="3200400"/>
              <a:ext cx="172440" cy="928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95320" y="3245400"/>
              <a:ext cx="0" cy="19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3861800">
              <a:off x="4077360" y="4267800"/>
              <a:ext cx="184680" cy="853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015440" y="4314960"/>
              <a:ext cx="156960" cy="11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3647000">
              <a:off x="3646440" y="3666240"/>
              <a:ext cx="184680" cy="853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588120" y="3707280"/>
              <a:ext cx="148320" cy="12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734200">
              <a:off x="612720" y="5065920"/>
              <a:ext cx="184680" cy="867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06680" y="4967640"/>
              <a:ext cx="15264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7888200">
              <a:off x="1253880" y="3619080"/>
              <a:ext cx="186480" cy="867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41000" y="3673080"/>
              <a:ext cx="15408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8107200">
              <a:off x="845280" y="4218840"/>
              <a:ext cx="172440" cy="914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25200" y="4264200"/>
              <a:ext cx="153720" cy="13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8107200">
              <a:off x="3004920" y="3432240"/>
              <a:ext cx="172440" cy="914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84840" y="3476520"/>
              <a:ext cx="15228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8107200">
              <a:off x="2594520" y="4032720"/>
              <a:ext cx="172440" cy="928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74800" y="4078080"/>
              <a:ext cx="15228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 rot="16027800">
              <a:off x="1328040" y="4022280"/>
              <a:ext cx="56844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flipV="1">
              <a:off x="3090960" y="4727160"/>
              <a:ext cx="648000" cy="12495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1752120" y="4496760"/>
              <a:ext cx="821160" cy="1573200"/>
            </a:xfrm>
            <a:prstGeom prst="line">
              <a:avLst/>
            </a:prstGeom>
            <a:ln w="2844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 rot="18881400">
              <a:off x="3530520" y="4254120"/>
              <a:ext cx="567360" cy="49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5257800" y="3124080"/>
            <a:ext cx="3657600" cy="3048120"/>
            <a:chOff x="5257800" y="3124080"/>
            <a:chExt cx="3657600" cy="30481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 rot="16027800">
              <a:off x="6054120" y="3988800"/>
              <a:ext cx="581760" cy="46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257800" y="3124080"/>
              <a:ext cx="3657600" cy="3048120"/>
            </a:xfrm>
            <a:custGeom>
              <a:avLst/>
              <a:gdLst/>
              <a:ahLst/>
              <a:rect l="l" t="t" r="r" b="b"/>
              <a:pathLst>
                <a:path w="4320" h="3082">
                  <a:moveTo>
                    <a:pt x="447" y="1200"/>
                  </a:moveTo>
                  <a:cubicBezTo>
                    <a:pt x="691" y="941"/>
                    <a:pt x="1179" y="65"/>
                    <a:pt x="1484" y="32"/>
                  </a:cubicBezTo>
                  <a:cubicBezTo>
                    <a:pt x="1789" y="0"/>
                    <a:pt x="1992" y="984"/>
                    <a:pt x="2277" y="1006"/>
                  </a:cubicBezTo>
                  <a:cubicBezTo>
                    <a:pt x="2562" y="1027"/>
                    <a:pt x="2856" y="65"/>
                    <a:pt x="3192" y="162"/>
                  </a:cubicBezTo>
                  <a:cubicBezTo>
                    <a:pt x="3527" y="259"/>
                    <a:pt x="4320" y="1243"/>
                    <a:pt x="4290" y="1589"/>
                  </a:cubicBezTo>
                  <a:cubicBezTo>
                    <a:pt x="4259" y="1935"/>
                    <a:pt x="3110" y="2054"/>
                    <a:pt x="3009" y="2238"/>
                  </a:cubicBezTo>
                  <a:cubicBezTo>
                    <a:pt x="2907" y="2422"/>
                    <a:pt x="3913" y="2573"/>
                    <a:pt x="3680" y="2692"/>
                  </a:cubicBezTo>
                  <a:cubicBezTo>
                    <a:pt x="3446" y="2811"/>
                    <a:pt x="2001" y="3082"/>
                    <a:pt x="1606" y="2952"/>
                  </a:cubicBezTo>
                  <a:cubicBezTo>
                    <a:pt x="1211" y="2822"/>
                    <a:pt x="1481" y="2042"/>
                    <a:pt x="1308" y="1912"/>
                  </a:cubicBezTo>
                  <a:cubicBezTo>
                    <a:pt x="1135" y="1782"/>
                    <a:pt x="784" y="2227"/>
                    <a:pt x="569" y="2173"/>
                  </a:cubicBezTo>
                  <a:cubicBezTo>
                    <a:pt x="354" y="2119"/>
                    <a:pt x="41" y="1752"/>
                    <a:pt x="20" y="1589"/>
                  </a:cubicBezTo>
                  <a:cubicBezTo>
                    <a:pt x="0" y="1427"/>
                    <a:pt x="203" y="1460"/>
                    <a:pt x="447" y="1200"/>
                  </a:cubicBezTo>
                  <a:close/>
                </a:path>
              </a:pathLst>
            </a:custGeom>
            <a:noFill/>
            <a:ln w="38160">
              <a:solidFill>
                <a:srgbClr val="c1bc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1377400">
              <a:off x="7165800" y="6009840"/>
              <a:ext cx="163440" cy="946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1308400">
              <a:off x="7374600" y="5985000"/>
              <a:ext cx="161640" cy="94680"/>
            </a:xfrm>
            <a:prstGeom prst="ellipse">
              <a:avLst/>
            </a:prstGeom>
            <a:solidFill>
              <a:srgbClr val="3366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1314400">
              <a:off x="7564320" y="5956200"/>
              <a:ext cx="161640" cy="946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0809200">
              <a:off x="7758000" y="5907600"/>
              <a:ext cx="163080" cy="946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20798400">
              <a:off x="7969680" y="5854320"/>
              <a:ext cx="163440" cy="94680"/>
            </a:xfrm>
            <a:prstGeom prst="ellipse">
              <a:avLst/>
            </a:prstGeom>
            <a:solidFill>
              <a:srgbClr val="3366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7723440" y="5314680"/>
              <a:ext cx="189360" cy="79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0515800">
              <a:off x="7880040" y="5182200"/>
              <a:ext cx="161640" cy="946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7892640" y="5042520"/>
              <a:ext cx="68760" cy="18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77720" y="535464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8013600" y="5699520"/>
              <a:ext cx="43920" cy="2080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7796520" y="5732640"/>
              <a:ext cx="43560" cy="20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624080" y="5777280"/>
              <a:ext cx="24840" cy="22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7445160" y="5819040"/>
              <a:ext cx="20160" cy="208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7237440" y="5837400"/>
              <a:ext cx="14040" cy="20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8062200" y="4690800"/>
              <a:ext cx="325080" cy="1186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6476040" y="4452480"/>
              <a:ext cx="976680" cy="1567080"/>
            </a:xfrm>
            <a:prstGeom prst="line">
              <a:avLst/>
            </a:prstGeom>
            <a:ln w="2844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 rot="18881400">
              <a:off x="8126640" y="4226400"/>
              <a:ext cx="582840" cy="46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347760" y="1809720"/>
            <a:ext cx="833904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andard techniques: GPU, shaders, shadow maps</a:t>
            </a:r>
            <a:endParaRPr b="0" lang="en-US" sz="2700" spc="-1" strike="noStrike">
              <a:solidFill>
                <a:srgbClr val="c1bc7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6248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on gather sample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248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on view sample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57780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eptual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Rectangle 3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2014560" cy="1944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5410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on gather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86160" y="6095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rect on view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5181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38480" y="47242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4268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3859200"/>
            <a:ext cx="1371600" cy="825480"/>
          </a:xfrm>
          <a:prstGeom prst="rect">
            <a:avLst/>
          </a:prstGeom>
          <a:solidFill>
            <a:srgbClr val="00583d"/>
          </a:solidFill>
          <a:ln w="12600">
            <a:solidFill>
              <a:srgbClr val="c1bc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 matrix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934320" y="348624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3" descr=""/>
          <p:cNvPicPr/>
          <p:nvPr/>
        </p:nvPicPr>
        <p:blipFill>
          <a:blip r:embed="rId4"/>
          <a:stretch/>
        </p:blipFill>
        <p:spPr>
          <a:xfrm>
            <a:off x="4495680" y="251460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267080" y="1905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on view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3505320"/>
            <a:ext cx="3812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553080" y="4572000"/>
            <a:ext cx="3812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7760" y="1809720"/>
            <a:ext cx="83390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fer matri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7e300"/>
                </a:solidFill>
                <a:latin typeface="Arial"/>
              </a:rPr>
              <a:t>Efficient precompu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compres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evalu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clusions and future wor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hy Is Precomputation Ha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7400" y="1809720"/>
            <a:ext cx="5824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 matrix is hug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iew samples: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640 x 480 = 300k row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ather samples: 64k colum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 billion el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um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ages with 1 light and full global illumin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2666880"/>
            <a:ext cx="1600200" cy="2362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15200" y="182880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bc7b"/>
                </a:solidFill>
                <a:latin typeface="Arial"/>
              </a:rPr>
              <a:t>64k gather</a:t>
            </a:r>
            <a:endParaRPr b="0" lang="en-US" sz="20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3397320"/>
            <a:ext cx="7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bc7b"/>
                </a:solidFill>
                <a:latin typeface="Arial"/>
              </a:rPr>
              <a:t>300k view</a:t>
            </a:r>
            <a:endParaRPr b="0" lang="en-US" sz="20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15200" y="2666880"/>
            <a:ext cx="0" cy="2362320"/>
          </a:xfrm>
          <a:prstGeom prst="line">
            <a:avLst/>
          </a:prstGeom>
          <a:ln w="28440">
            <a:solidFill>
              <a:srgbClr val="c1bc7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24680" y="2666880"/>
            <a:ext cx="0" cy="2362320"/>
          </a:xfrm>
          <a:prstGeom prst="line">
            <a:avLst/>
          </a:prstGeom>
          <a:ln w="28440">
            <a:solidFill>
              <a:srgbClr val="c1bc7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53280" y="2666880"/>
            <a:ext cx="0" cy="2362320"/>
          </a:xfrm>
          <a:prstGeom prst="line">
            <a:avLst/>
          </a:prstGeom>
          <a:ln w="28440">
            <a:solidFill>
              <a:srgbClr val="c1bc7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86600" y="56386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bc7b"/>
                </a:solidFill>
                <a:latin typeface="Arial"/>
              </a:rPr>
              <a:t>Full global illumination images</a:t>
            </a:r>
            <a:endParaRPr b="0" lang="en-US" sz="20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7391520" y="5105520"/>
            <a:ext cx="304560" cy="457200"/>
          </a:xfrm>
          <a:prstGeom prst="line">
            <a:avLst/>
          </a:prstGeom>
          <a:ln w="9360">
            <a:solidFill>
              <a:srgbClr val="c1bc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772400" y="5105520"/>
            <a:ext cx="152280" cy="457200"/>
          </a:xfrm>
          <a:prstGeom prst="line">
            <a:avLst/>
          </a:prstGeom>
          <a:ln w="9360">
            <a:solidFill>
              <a:srgbClr val="c1bc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848720" y="5105520"/>
            <a:ext cx="228600" cy="457200"/>
          </a:xfrm>
          <a:prstGeom prst="line">
            <a:avLst/>
          </a:prstGeom>
          <a:ln w="9360">
            <a:solidFill>
              <a:srgbClr val="c1bc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bounce &amp; Final Gather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47760" y="1809720"/>
            <a:ext cx="841536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plit full transfer matrix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ltiple-bounce matrix (lower accuracy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nal gather matrix (higher accuracy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320" y="35812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ll transfer: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y gather-to-view</a:t>
            </a:r>
            <a:endParaRPr b="0" lang="en-US" sz="22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05320" y="35812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lti-bounce: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y gather-to-gather</a:t>
            </a:r>
            <a:endParaRPr b="0" lang="en-US" sz="22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334200" y="3581280"/>
            <a:ext cx="28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nal gather: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ne gather-to-view</a:t>
            </a:r>
            <a:endParaRPr b="0" lang="en-US" sz="22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5638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77120" y="4419720"/>
            <a:ext cx="2514600" cy="2301840"/>
          </a:xfrm>
          <a:custGeom>
            <a:avLst/>
            <a:gdLst/>
            <a:ahLst/>
            <a:rect l="l" t="t" r="r" b="b"/>
            <a:pathLst>
              <a:path w="4320" h="3123">
                <a:moveTo>
                  <a:pt x="447" y="1241"/>
                </a:moveTo>
                <a:cubicBezTo>
                  <a:pt x="691" y="982"/>
                  <a:pt x="1178" y="146"/>
                  <a:pt x="1484" y="73"/>
                </a:cubicBezTo>
                <a:cubicBezTo>
                  <a:pt x="1790" y="0"/>
                  <a:pt x="1998" y="783"/>
                  <a:pt x="2283" y="805"/>
                </a:cubicBezTo>
                <a:cubicBezTo>
                  <a:pt x="2568" y="827"/>
                  <a:pt x="2858" y="65"/>
                  <a:pt x="3192" y="203"/>
                </a:cubicBezTo>
                <a:cubicBezTo>
                  <a:pt x="3526" y="341"/>
                  <a:pt x="4320" y="1284"/>
                  <a:pt x="4290" y="1630"/>
                </a:cubicBezTo>
                <a:cubicBezTo>
                  <a:pt x="4259" y="1976"/>
                  <a:pt x="3110" y="2095"/>
                  <a:pt x="3009" y="2279"/>
                </a:cubicBezTo>
                <a:cubicBezTo>
                  <a:pt x="2907" y="2463"/>
                  <a:pt x="3913" y="2614"/>
                  <a:pt x="3680" y="2733"/>
                </a:cubicBezTo>
                <a:cubicBezTo>
                  <a:pt x="3446" y="2852"/>
                  <a:pt x="2001" y="3123"/>
                  <a:pt x="1606" y="2993"/>
                </a:cubicBezTo>
                <a:cubicBezTo>
                  <a:pt x="1211" y="2863"/>
                  <a:pt x="1481" y="2083"/>
                  <a:pt x="1308" y="1953"/>
                </a:cubicBezTo>
                <a:cubicBezTo>
                  <a:pt x="1135" y="1823"/>
                  <a:pt x="784" y="2268"/>
                  <a:pt x="569" y="2214"/>
                </a:cubicBezTo>
                <a:cubicBezTo>
                  <a:pt x="354" y="2160"/>
                  <a:pt x="41" y="1793"/>
                  <a:pt x="20" y="1630"/>
                </a:cubicBezTo>
                <a:cubicBezTo>
                  <a:pt x="0" y="1468"/>
                  <a:pt x="203" y="1501"/>
                  <a:pt x="447" y="1241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3796400">
            <a:off x="8753400" y="5128920"/>
            <a:ext cx="141120" cy="5580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8733960" y="5179320"/>
            <a:ext cx="85320" cy="9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21308400">
            <a:off x="7733880" y="6606720"/>
            <a:ext cx="111240" cy="716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7783560" y="6483240"/>
            <a:ext cx="14400" cy="15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790040" y="5157720"/>
            <a:ext cx="1033200" cy="14860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4068360" y="5016600"/>
            <a:ext cx="2043000" cy="1411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807160" y="5157360"/>
            <a:ext cx="334800" cy="777960"/>
          </a:xfrm>
          <a:prstGeom prst="line">
            <a:avLst/>
          </a:prstGeom>
          <a:ln cap="rnd" w="381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4068360" y="5016240"/>
            <a:ext cx="1768680" cy="919080"/>
          </a:xfrm>
          <a:prstGeom prst="line">
            <a:avLst/>
          </a:prstGeom>
          <a:ln cap="rnd" w="381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4068360" y="4979880"/>
            <a:ext cx="1189080" cy="162720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257800" y="4768920"/>
            <a:ext cx="92160" cy="183816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5349960" y="4803480"/>
            <a:ext cx="792000" cy="35388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7888200">
            <a:off x="3997800" y="4985280"/>
            <a:ext cx="141480" cy="6048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65840" y="5027400"/>
            <a:ext cx="107280" cy="79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3796400">
            <a:off x="6071400" y="5126400"/>
            <a:ext cx="141120" cy="6048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042960" y="5175360"/>
            <a:ext cx="93960" cy="98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4419720"/>
            <a:ext cx="2743200" cy="2301840"/>
          </a:xfrm>
          <a:custGeom>
            <a:avLst/>
            <a:gdLst/>
            <a:ahLst/>
            <a:rect l="l" t="t" r="r" b="b"/>
            <a:pathLst>
              <a:path w="4320" h="3123">
                <a:moveTo>
                  <a:pt x="447" y="1241"/>
                </a:moveTo>
                <a:cubicBezTo>
                  <a:pt x="691" y="982"/>
                  <a:pt x="1178" y="146"/>
                  <a:pt x="1484" y="73"/>
                </a:cubicBezTo>
                <a:cubicBezTo>
                  <a:pt x="1790" y="0"/>
                  <a:pt x="1998" y="783"/>
                  <a:pt x="2283" y="805"/>
                </a:cubicBezTo>
                <a:cubicBezTo>
                  <a:pt x="2568" y="827"/>
                  <a:pt x="2858" y="65"/>
                  <a:pt x="3192" y="203"/>
                </a:cubicBezTo>
                <a:cubicBezTo>
                  <a:pt x="3526" y="341"/>
                  <a:pt x="4320" y="1284"/>
                  <a:pt x="4290" y="1630"/>
                </a:cubicBezTo>
                <a:cubicBezTo>
                  <a:pt x="4259" y="1976"/>
                  <a:pt x="3110" y="2095"/>
                  <a:pt x="3009" y="2279"/>
                </a:cubicBezTo>
                <a:cubicBezTo>
                  <a:pt x="2907" y="2463"/>
                  <a:pt x="3913" y="2614"/>
                  <a:pt x="3680" y="2733"/>
                </a:cubicBezTo>
                <a:cubicBezTo>
                  <a:pt x="3446" y="2852"/>
                  <a:pt x="2001" y="3123"/>
                  <a:pt x="1606" y="2993"/>
                </a:cubicBezTo>
                <a:cubicBezTo>
                  <a:pt x="1211" y="2863"/>
                  <a:pt x="1481" y="2083"/>
                  <a:pt x="1308" y="1953"/>
                </a:cubicBezTo>
                <a:cubicBezTo>
                  <a:pt x="1135" y="1823"/>
                  <a:pt x="784" y="2268"/>
                  <a:pt x="569" y="2214"/>
                </a:cubicBezTo>
                <a:cubicBezTo>
                  <a:pt x="354" y="2160"/>
                  <a:pt x="41" y="1793"/>
                  <a:pt x="20" y="1630"/>
                </a:cubicBezTo>
                <a:cubicBezTo>
                  <a:pt x="0" y="1468"/>
                  <a:pt x="203" y="1501"/>
                  <a:pt x="447" y="1241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52280" y="4419720"/>
            <a:ext cx="2667240" cy="2301840"/>
            <a:chOff x="152280" y="4419720"/>
            <a:chExt cx="2667240" cy="2301840"/>
          </a:xfrm>
        </p:grpSpPr>
        <p:sp>
          <p:nvSpPr>
            <p:cNvPr id="289" name=""/>
            <p:cNvSpPr/>
            <p:nvPr/>
          </p:nvSpPr>
          <p:spPr>
            <a:xfrm>
              <a:off x="152280" y="4419720"/>
              <a:ext cx="2667240" cy="2301840"/>
            </a:xfrm>
            <a:custGeom>
              <a:avLst/>
              <a:gdLst/>
              <a:ahLst/>
              <a:rect l="l" t="t" r="r" b="b"/>
              <a:pathLst>
                <a:path w="4320" h="3123">
                  <a:moveTo>
                    <a:pt x="447" y="1241"/>
                  </a:moveTo>
                  <a:cubicBezTo>
                    <a:pt x="691" y="982"/>
                    <a:pt x="1178" y="146"/>
                    <a:pt x="1484" y="73"/>
                  </a:cubicBezTo>
                  <a:cubicBezTo>
                    <a:pt x="1790" y="0"/>
                    <a:pt x="1998" y="783"/>
                    <a:pt x="2283" y="805"/>
                  </a:cubicBezTo>
                  <a:cubicBezTo>
                    <a:pt x="2568" y="827"/>
                    <a:pt x="2858" y="65"/>
                    <a:pt x="3192" y="203"/>
                  </a:cubicBezTo>
                  <a:cubicBezTo>
                    <a:pt x="3526" y="341"/>
                    <a:pt x="4320" y="1284"/>
                    <a:pt x="4290" y="1630"/>
                  </a:cubicBezTo>
                  <a:cubicBezTo>
                    <a:pt x="4259" y="1976"/>
                    <a:pt x="3110" y="2095"/>
                    <a:pt x="3009" y="2279"/>
                  </a:cubicBezTo>
                  <a:cubicBezTo>
                    <a:pt x="2907" y="2463"/>
                    <a:pt x="3913" y="2614"/>
                    <a:pt x="3680" y="2733"/>
                  </a:cubicBezTo>
                  <a:cubicBezTo>
                    <a:pt x="3446" y="2852"/>
                    <a:pt x="2001" y="3123"/>
                    <a:pt x="1606" y="2993"/>
                  </a:cubicBezTo>
                  <a:cubicBezTo>
                    <a:pt x="1211" y="2863"/>
                    <a:pt x="1481" y="2083"/>
                    <a:pt x="1308" y="1953"/>
                  </a:cubicBezTo>
                  <a:cubicBezTo>
                    <a:pt x="1135" y="1823"/>
                    <a:pt x="784" y="2268"/>
                    <a:pt x="569" y="2214"/>
                  </a:cubicBezTo>
                  <a:cubicBezTo>
                    <a:pt x="354" y="2160"/>
                    <a:pt x="41" y="1793"/>
                    <a:pt x="20" y="1630"/>
                  </a:cubicBezTo>
                  <a:cubicBezTo>
                    <a:pt x="0" y="1468"/>
                    <a:pt x="203" y="1501"/>
                    <a:pt x="447" y="1241"/>
                  </a:cubicBezTo>
                  <a:close/>
                </a:path>
              </a:pathLst>
            </a:custGeom>
            <a:noFill/>
            <a:ln w="38160">
              <a:solidFill>
                <a:srgbClr val="c1bc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1308400">
              <a:off x="1485360" y="6607800"/>
              <a:ext cx="118440" cy="705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1537200" y="6483240"/>
              <a:ext cx="147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7888200">
              <a:off x="554760" y="4985640"/>
              <a:ext cx="141480" cy="5904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1360" y="5028120"/>
              <a:ext cx="10656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6400" y="5015880"/>
              <a:ext cx="918360" cy="16272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26400" y="4944960"/>
              <a:ext cx="829440" cy="70560"/>
            </a:xfrm>
            <a:prstGeom prst="line">
              <a:avLst/>
            </a:prstGeom>
            <a:ln cap="rnd" w="381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56200" y="4944960"/>
              <a:ext cx="88560" cy="1733400"/>
            </a:xfrm>
            <a:prstGeom prst="line">
              <a:avLst/>
            </a:prstGeom>
            <a:ln cap="rnd" w="381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359640" y="5015880"/>
              <a:ext cx="266400" cy="91980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59640" y="5192280"/>
              <a:ext cx="2282040" cy="74268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545120" y="5192640"/>
              <a:ext cx="1096560" cy="145044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Final Gather Matrix El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1763640"/>
            <a:ext cx="6858000" cy="4957920"/>
          </a:xfrm>
          <a:custGeom>
            <a:avLst/>
            <a:gdLst/>
            <a:ahLst/>
            <a:rect l="l" t="t" r="r" b="b"/>
            <a:pathLst>
              <a:path w="4320" h="3123">
                <a:moveTo>
                  <a:pt x="447" y="1241"/>
                </a:moveTo>
                <a:cubicBezTo>
                  <a:pt x="691" y="982"/>
                  <a:pt x="1178" y="146"/>
                  <a:pt x="1484" y="73"/>
                </a:cubicBezTo>
                <a:cubicBezTo>
                  <a:pt x="1790" y="0"/>
                  <a:pt x="1998" y="783"/>
                  <a:pt x="2283" y="805"/>
                </a:cubicBezTo>
                <a:cubicBezTo>
                  <a:pt x="2568" y="827"/>
                  <a:pt x="2858" y="65"/>
                  <a:pt x="3192" y="203"/>
                </a:cubicBezTo>
                <a:cubicBezTo>
                  <a:pt x="3526" y="341"/>
                  <a:pt x="4320" y="1284"/>
                  <a:pt x="4290" y="1630"/>
                </a:cubicBezTo>
                <a:cubicBezTo>
                  <a:pt x="4259" y="1976"/>
                  <a:pt x="3110" y="2095"/>
                  <a:pt x="3009" y="2279"/>
                </a:cubicBezTo>
                <a:cubicBezTo>
                  <a:pt x="2907" y="2463"/>
                  <a:pt x="3913" y="2614"/>
                  <a:pt x="3680" y="2733"/>
                </a:cubicBezTo>
                <a:cubicBezTo>
                  <a:pt x="3446" y="2852"/>
                  <a:pt x="2001" y="3123"/>
                  <a:pt x="1606" y="2993"/>
                </a:cubicBezTo>
                <a:cubicBezTo>
                  <a:pt x="1211" y="2863"/>
                  <a:pt x="1481" y="2083"/>
                  <a:pt x="1308" y="1953"/>
                </a:cubicBezTo>
                <a:cubicBezTo>
                  <a:pt x="1135" y="1823"/>
                  <a:pt x="784" y="2268"/>
                  <a:pt x="569" y="2214"/>
                </a:cubicBezTo>
                <a:cubicBezTo>
                  <a:pt x="354" y="2160"/>
                  <a:pt x="41" y="1793"/>
                  <a:pt x="20" y="1630"/>
                </a:cubicBezTo>
                <a:cubicBezTo>
                  <a:pt x="0" y="1468"/>
                  <a:pt x="203" y="1501"/>
                  <a:pt x="447" y="1241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3796400">
            <a:off x="7391160" y="3276000"/>
            <a:ext cx="304920" cy="15264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7297200" y="3377520"/>
            <a:ext cx="238680" cy="240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21308400">
            <a:off x="4572000" y="6477120"/>
            <a:ext cx="30492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4705200" y="6208200"/>
            <a:ext cx="381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724280" y="3352680"/>
            <a:ext cx="2819520" cy="32004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1828800"/>
            <a:ext cx="1524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??</a:t>
            </a:r>
            <a:endParaRPr b="0" lang="en-US" sz="32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6004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 sample i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696080" y="2743200"/>
            <a:ext cx="6098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257440" y="66294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1752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 sample j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37339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-bounce contribution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48320" y="4419720"/>
            <a:ext cx="76176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bounce Matrix El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696080" y="266688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31520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 sample i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361960" y="3048120"/>
            <a:ext cx="5105160" cy="30456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705720" y="3352320"/>
            <a:ext cx="838080" cy="1676520"/>
          </a:xfrm>
          <a:prstGeom prst="line">
            <a:avLst/>
          </a:prstGeom>
          <a:ln cap="rnd" w="381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2362320" y="3047760"/>
            <a:ext cx="4419360" cy="1981080"/>
          </a:xfrm>
          <a:prstGeom prst="line">
            <a:avLst/>
          </a:prstGeom>
          <a:ln cap="rnd" w="381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2361960" y="2971440"/>
            <a:ext cx="2971800" cy="350532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34120" y="2514240"/>
            <a:ext cx="228600" cy="396252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5562360" y="2514600"/>
            <a:ext cx="1981080" cy="83808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1828800"/>
            <a:ext cx="1676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??</a:t>
            </a:r>
            <a:endParaRPr b="0" lang="en-US" sz="32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447920" y="3124080"/>
            <a:ext cx="60948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895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 sample j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7888200">
            <a:off x="2208960" y="2971440"/>
            <a:ext cx="304920" cy="15228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52960" y="3056040"/>
            <a:ext cx="269280" cy="204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3796400">
            <a:off x="7391160" y="3276000"/>
            <a:ext cx="304920" cy="15264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297200" y="3377520"/>
            <a:ext cx="238680" cy="240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1763640"/>
            <a:ext cx="6858000" cy="4957920"/>
          </a:xfrm>
          <a:custGeom>
            <a:avLst/>
            <a:gdLst/>
            <a:ahLst/>
            <a:rect l="l" t="t" r="r" b="b"/>
            <a:pathLst>
              <a:path w="4320" h="3123">
                <a:moveTo>
                  <a:pt x="447" y="1241"/>
                </a:moveTo>
                <a:cubicBezTo>
                  <a:pt x="691" y="982"/>
                  <a:pt x="1178" y="146"/>
                  <a:pt x="1484" y="73"/>
                </a:cubicBezTo>
                <a:cubicBezTo>
                  <a:pt x="1790" y="0"/>
                  <a:pt x="1998" y="783"/>
                  <a:pt x="2283" y="805"/>
                </a:cubicBezTo>
                <a:cubicBezTo>
                  <a:pt x="2568" y="827"/>
                  <a:pt x="2858" y="65"/>
                  <a:pt x="3192" y="203"/>
                </a:cubicBezTo>
                <a:cubicBezTo>
                  <a:pt x="3526" y="341"/>
                  <a:pt x="4320" y="1284"/>
                  <a:pt x="4290" y="1630"/>
                </a:cubicBezTo>
                <a:cubicBezTo>
                  <a:pt x="4259" y="1976"/>
                  <a:pt x="3110" y="2095"/>
                  <a:pt x="3009" y="2279"/>
                </a:cubicBezTo>
                <a:cubicBezTo>
                  <a:pt x="2907" y="2463"/>
                  <a:pt x="3913" y="2614"/>
                  <a:pt x="3680" y="2733"/>
                </a:cubicBezTo>
                <a:cubicBezTo>
                  <a:pt x="3446" y="2852"/>
                  <a:pt x="2001" y="3123"/>
                  <a:pt x="1606" y="2993"/>
                </a:cubicBezTo>
                <a:cubicBezTo>
                  <a:pt x="1211" y="2863"/>
                  <a:pt x="1481" y="2083"/>
                  <a:pt x="1308" y="1953"/>
                </a:cubicBezTo>
                <a:cubicBezTo>
                  <a:pt x="1135" y="1823"/>
                  <a:pt x="784" y="2268"/>
                  <a:pt x="569" y="2214"/>
                </a:cubicBezTo>
                <a:cubicBezTo>
                  <a:pt x="354" y="2160"/>
                  <a:pt x="41" y="1793"/>
                  <a:pt x="20" y="1630"/>
                </a:cubicBezTo>
                <a:cubicBezTo>
                  <a:pt x="0" y="1468"/>
                  <a:pt x="203" y="1501"/>
                  <a:pt x="447" y="1241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Multi-bounce Matrix: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parse Approximat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8339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hoton mapp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Jensen 96]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analog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, don’t know light posi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oot photons from gather samples instead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otons carry gather sample 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ke standard photon mapping with 64k ligh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84153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inematic Relight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Gershbein 2000, Pellacini 2005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active local light movement, fixed came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dural shaders, various materi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gh-complexit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direct illumin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goal of our system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 multiple bounce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f indirect illumin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Multi-bounce Matrix: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omputing by Photon Mapping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43000" y="1828800"/>
            <a:ext cx="6858000" cy="4892760"/>
          </a:xfrm>
          <a:custGeom>
            <a:avLst/>
            <a:gdLst/>
            <a:ahLst/>
            <a:rect l="l" t="t" r="r" b="b"/>
            <a:pathLst>
              <a:path w="4320" h="3082">
                <a:moveTo>
                  <a:pt x="447" y="1200"/>
                </a:moveTo>
                <a:cubicBezTo>
                  <a:pt x="691" y="941"/>
                  <a:pt x="1179" y="65"/>
                  <a:pt x="1484" y="32"/>
                </a:cubicBezTo>
                <a:cubicBezTo>
                  <a:pt x="1789" y="0"/>
                  <a:pt x="1992" y="984"/>
                  <a:pt x="2277" y="1006"/>
                </a:cubicBezTo>
                <a:cubicBezTo>
                  <a:pt x="2562" y="1027"/>
                  <a:pt x="2856" y="65"/>
                  <a:pt x="3192" y="162"/>
                </a:cubicBezTo>
                <a:cubicBezTo>
                  <a:pt x="3527" y="259"/>
                  <a:pt x="4320" y="1243"/>
                  <a:pt x="4290" y="1589"/>
                </a:cubicBezTo>
                <a:cubicBezTo>
                  <a:pt x="4259" y="1935"/>
                  <a:pt x="3110" y="2054"/>
                  <a:pt x="3009" y="2238"/>
                </a:cubicBezTo>
                <a:cubicBezTo>
                  <a:pt x="2907" y="2422"/>
                  <a:pt x="3913" y="2573"/>
                  <a:pt x="3680" y="2692"/>
                </a:cubicBezTo>
                <a:cubicBezTo>
                  <a:pt x="3446" y="2811"/>
                  <a:pt x="2001" y="3082"/>
                  <a:pt x="1606" y="2952"/>
                </a:cubicBezTo>
                <a:cubicBezTo>
                  <a:pt x="1211" y="2822"/>
                  <a:pt x="1481" y="2042"/>
                  <a:pt x="1308" y="1912"/>
                </a:cubicBezTo>
                <a:cubicBezTo>
                  <a:pt x="1135" y="1782"/>
                  <a:pt x="784" y="2227"/>
                  <a:pt x="569" y="2173"/>
                </a:cubicBezTo>
                <a:cubicBezTo>
                  <a:pt x="354" y="2119"/>
                  <a:pt x="41" y="1752"/>
                  <a:pt x="20" y="1589"/>
                </a:cubicBezTo>
                <a:cubicBezTo>
                  <a:pt x="0" y="1427"/>
                  <a:pt x="203" y="1460"/>
                  <a:pt x="447" y="1200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5790960"/>
            <a:ext cx="7621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5867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 sample i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5031600">
            <a:off x="3200040" y="5638680"/>
            <a:ext cx="30456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352680" y="5670000"/>
            <a:ext cx="333720" cy="39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2280" y="1905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-th row of M = ??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7888200">
            <a:off x="2561400" y="2514240"/>
            <a:ext cx="304920" cy="1522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05400" y="2598840"/>
            <a:ext cx="269280" cy="204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7116840" y="234144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16292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ather sample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3647000">
            <a:off x="6781320" y="2590200"/>
            <a:ext cx="30492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667920" y="2657160"/>
            <a:ext cx="262800" cy="22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24382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124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105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6400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53080" y="49528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2133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38880" y="47242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324480" y="5715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0" y="6400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50292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2286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32004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47242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199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400800" y="60958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43800" y="35812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21308400">
            <a:off x="5262480" y="6373800"/>
            <a:ext cx="304920" cy="1522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5395680" y="6105600"/>
            <a:ext cx="37800" cy="33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19920" y="56386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29400" y="24382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15200" y="32767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33526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0" y="48006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48769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352680" y="59436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0" y="31240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4572000"/>
            <a:ext cx="1447920" cy="2057400"/>
          </a:xfrm>
          <a:prstGeom prst="rect">
            <a:avLst/>
          </a:prstGeom>
          <a:noFill/>
          <a:ln w="1260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4832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00"/>
                </a:solidFill>
                <a:latin typeface="Arial"/>
              </a:rPr>
              <a:t>K nearest photon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267080" y="4419720"/>
            <a:ext cx="533520" cy="228600"/>
          </a:xfrm>
          <a:prstGeom prst="line">
            <a:avLst/>
          </a:prstGeom>
          <a:ln w="9360">
            <a:solidFill>
              <a:srgbClr val="00e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onceptual Overview, Updated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506760" y="1906560"/>
            <a:ext cx="1989000" cy="19098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6781680" y="1906560"/>
            <a:ext cx="1981440" cy="19098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228600" y="1905120"/>
            <a:ext cx="1981080" cy="1912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28600" y="3886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 on gather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505320" y="3886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rect on gather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705720" y="3886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 + Ind on gather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6400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rect on view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77120" y="6400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763120" y="2819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915400" y="2819520"/>
            <a:ext cx="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33160" y="434340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3520" y="43434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5486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2057400" y="44956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6248520" y="451476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362320" y="2398680"/>
            <a:ext cx="9903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-bounce matrix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2536920"/>
            <a:ext cx="990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direct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2120" y="5029200"/>
            <a:ext cx="9144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l gather matrix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76920" y="5105520"/>
            <a:ext cx="990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direct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76520" y="5486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5410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867280" y="5410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09680" y="2895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52680" y="2895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2895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629400" y="2895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47760" y="1809720"/>
            <a:ext cx="83390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fer matri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precompu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7e300"/>
                </a:solidFill>
                <a:latin typeface="Arial"/>
              </a:rPr>
              <a:t>Efficient compres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evalu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clusions and future wor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fining a Wavelet Basi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8415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ant to use wavele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? There is no obvious domain to apply them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structured cloud of gather samp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ill possible to define wavelets on the cloud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latten gather cloud to a 2D arr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tain coher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2D Haar wavelets on the 2D arr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fining a Wavelet Basi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52280" y="2600280"/>
            <a:ext cx="2297160" cy="22669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3505320" y="2590920"/>
            <a:ext cx="2209680" cy="2286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990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4k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6762600" y="2639880"/>
            <a:ext cx="2229120" cy="2187720"/>
          </a:xfrm>
          <a:prstGeom prst="rect">
            <a:avLst/>
          </a:prstGeom>
          <a:ln w="12600">
            <a:solidFill>
              <a:srgbClr val="c1bc7b"/>
            </a:solidFill>
            <a:miter/>
          </a:ln>
        </p:spPr>
      </p:pic>
      <p:sp>
        <p:nvSpPr>
          <p:cNvPr id="411" name=""/>
          <p:cNvSpPr/>
          <p:nvPr/>
        </p:nvSpPr>
        <p:spPr>
          <a:xfrm>
            <a:off x="403848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6 x 256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514600" y="3733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91320" y="3733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51814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 sample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57600" y="51814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ttened in a 2D array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10280" y="51814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let transform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21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6 x 256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erarchical Partition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80960" y="2065320"/>
            <a:ext cx="6377040" cy="4491000"/>
          </a:xfrm>
          <a:custGeom>
            <a:avLst/>
            <a:gdLst/>
            <a:ahLst/>
            <a:rect l="l" t="t" r="r" b="b"/>
            <a:pathLst>
              <a:path w="4320" h="3082">
                <a:moveTo>
                  <a:pt x="447" y="1200"/>
                </a:moveTo>
                <a:cubicBezTo>
                  <a:pt x="691" y="941"/>
                  <a:pt x="1179" y="65"/>
                  <a:pt x="1484" y="32"/>
                </a:cubicBezTo>
                <a:cubicBezTo>
                  <a:pt x="1789" y="0"/>
                  <a:pt x="1992" y="984"/>
                  <a:pt x="2277" y="1006"/>
                </a:cubicBezTo>
                <a:cubicBezTo>
                  <a:pt x="2562" y="1027"/>
                  <a:pt x="2856" y="65"/>
                  <a:pt x="3192" y="162"/>
                </a:cubicBezTo>
                <a:cubicBezTo>
                  <a:pt x="3527" y="259"/>
                  <a:pt x="4320" y="1243"/>
                  <a:pt x="4290" y="1589"/>
                </a:cubicBezTo>
                <a:cubicBezTo>
                  <a:pt x="4259" y="1935"/>
                  <a:pt x="3110" y="2054"/>
                  <a:pt x="3009" y="2238"/>
                </a:cubicBezTo>
                <a:cubicBezTo>
                  <a:pt x="2907" y="2422"/>
                  <a:pt x="3913" y="2573"/>
                  <a:pt x="3680" y="2692"/>
                </a:cubicBezTo>
                <a:cubicBezTo>
                  <a:pt x="3446" y="2811"/>
                  <a:pt x="2001" y="3082"/>
                  <a:pt x="1606" y="2952"/>
                </a:cubicBezTo>
                <a:cubicBezTo>
                  <a:pt x="1211" y="2822"/>
                  <a:pt x="1481" y="2042"/>
                  <a:pt x="1308" y="1912"/>
                </a:cubicBezTo>
                <a:cubicBezTo>
                  <a:pt x="1135" y="1782"/>
                  <a:pt x="784" y="2227"/>
                  <a:pt x="569" y="2173"/>
                </a:cubicBezTo>
                <a:cubicBezTo>
                  <a:pt x="354" y="2119"/>
                  <a:pt x="41" y="1752"/>
                  <a:pt x="20" y="1589"/>
                </a:cubicBezTo>
                <a:cubicBezTo>
                  <a:pt x="0" y="1427"/>
                  <a:pt x="203" y="1460"/>
                  <a:pt x="447" y="1200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21377400">
            <a:off x="4357440" y="6316560"/>
            <a:ext cx="28260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4483080" y="6062400"/>
            <a:ext cx="23760" cy="30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20809800">
            <a:off x="5419440" y="6191280"/>
            <a:ext cx="28404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5484240" y="5958360"/>
            <a:ext cx="73800" cy="29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20839200">
            <a:off x="6470280" y="4933440"/>
            <a:ext cx="28404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512040" y="4691880"/>
            <a:ext cx="101520" cy="30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19752000">
            <a:off x="2655360" y="4932360"/>
            <a:ext cx="28440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2632320" y="4727520"/>
            <a:ext cx="161280" cy="26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031600">
            <a:off x="3296160" y="5561640"/>
            <a:ext cx="279360" cy="141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436200" y="5591520"/>
            <a:ext cx="311040" cy="3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9367400">
            <a:off x="7448040" y="4513320"/>
            <a:ext cx="28260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7392600" y="4335480"/>
            <a:ext cx="189000" cy="24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1880600">
            <a:off x="6198840" y="5605200"/>
            <a:ext cx="28404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225120" y="5677560"/>
            <a:ext cx="119520" cy="29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4499000">
            <a:off x="4146480" y="2972880"/>
            <a:ext cx="279360" cy="1429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3989160" y="3036600"/>
            <a:ext cx="290880" cy="13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0800000">
            <a:off x="3435120" y="2065320"/>
            <a:ext cx="28404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78400" y="2134440"/>
            <a:ext cx="0" cy="290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3861800">
            <a:off x="7335000" y="3672720"/>
            <a:ext cx="279360" cy="141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7219800" y="3743280"/>
            <a:ext cx="259200" cy="18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3647000">
            <a:off x="6625800" y="2763000"/>
            <a:ext cx="281160" cy="141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518880" y="2825640"/>
            <a:ext cx="244800" cy="205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2734200">
            <a:off x="1648080" y="4879080"/>
            <a:ext cx="279720" cy="141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788840" y="4729320"/>
            <a:ext cx="254160" cy="218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7888200">
            <a:off x="2701080" y="2693520"/>
            <a:ext cx="281160" cy="141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32840" y="2769840"/>
            <a:ext cx="250920" cy="192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8107200">
            <a:off x="2018880" y="3603600"/>
            <a:ext cx="28260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158200" y="3673800"/>
            <a:ext cx="235440" cy="203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8107200">
            <a:off x="5560920" y="2414520"/>
            <a:ext cx="28440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02040" y="2484360"/>
            <a:ext cx="234000" cy="205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8107200">
            <a:off x="4887720" y="3323880"/>
            <a:ext cx="28404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028840" y="3393720"/>
            <a:ext cx="234000" cy="205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722600" y="1905120"/>
            <a:ext cx="2885760" cy="2209680"/>
          </a:xfrm>
          <a:custGeom>
            <a:avLst/>
            <a:gdLst/>
            <a:ahLst/>
            <a:rect l="l" t="t" r="r" b="b"/>
            <a:pathLst>
              <a:path w="1955" h="1517">
                <a:moveTo>
                  <a:pt x="58" y="1286"/>
                </a:moveTo>
                <a:cubicBezTo>
                  <a:pt x="116" y="1441"/>
                  <a:pt x="424" y="1517"/>
                  <a:pt x="706" y="1511"/>
                </a:cubicBezTo>
                <a:cubicBezTo>
                  <a:pt x="988" y="1505"/>
                  <a:pt x="1563" y="1468"/>
                  <a:pt x="1751" y="1250"/>
                </a:cubicBezTo>
                <a:cubicBezTo>
                  <a:pt x="1939" y="1032"/>
                  <a:pt x="1955" y="404"/>
                  <a:pt x="1833" y="206"/>
                </a:cubicBezTo>
                <a:cubicBezTo>
                  <a:pt x="1711" y="8"/>
                  <a:pt x="1262" y="0"/>
                  <a:pt x="1017" y="62"/>
                </a:cubicBezTo>
                <a:cubicBezTo>
                  <a:pt x="772" y="124"/>
                  <a:pt x="521" y="375"/>
                  <a:pt x="361" y="579"/>
                </a:cubicBezTo>
                <a:cubicBezTo>
                  <a:pt x="201" y="783"/>
                  <a:pt x="0" y="1131"/>
                  <a:pt x="58" y="1286"/>
                </a:cubicBez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80080" y="2147760"/>
            <a:ext cx="3163680" cy="2141640"/>
          </a:xfrm>
          <a:custGeom>
            <a:avLst/>
            <a:gdLst/>
            <a:ahLst/>
            <a:rect l="l" t="t" r="r" b="b"/>
            <a:pathLst>
              <a:path w="2144" h="1470">
                <a:moveTo>
                  <a:pt x="1" y="881"/>
                </a:moveTo>
                <a:cubicBezTo>
                  <a:pt x="42" y="1081"/>
                  <a:pt x="214" y="1247"/>
                  <a:pt x="535" y="1327"/>
                </a:cubicBezTo>
                <a:cubicBezTo>
                  <a:pt x="856" y="1407"/>
                  <a:pt x="1716" y="1470"/>
                  <a:pt x="1930" y="1362"/>
                </a:cubicBezTo>
                <a:cubicBezTo>
                  <a:pt x="2144" y="1254"/>
                  <a:pt x="1904" y="886"/>
                  <a:pt x="1818" y="679"/>
                </a:cubicBezTo>
                <a:cubicBezTo>
                  <a:pt x="1732" y="472"/>
                  <a:pt x="1668" y="213"/>
                  <a:pt x="1414" y="121"/>
                </a:cubicBezTo>
                <a:cubicBezTo>
                  <a:pt x="1160" y="29"/>
                  <a:pt x="526" y="0"/>
                  <a:pt x="291" y="127"/>
                </a:cubicBezTo>
                <a:cubicBezTo>
                  <a:pt x="56" y="254"/>
                  <a:pt x="0" y="648"/>
                  <a:pt x="1" y="881"/>
                </a:cubicBez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295280" y="4268880"/>
            <a:ext cx="3621240" cy="2458800"/>
          </a:xfrm>
          <a:custGeom>
            <a:avLst/>
            <a:gdLst/>
            <a:ahLst/>
            <a:rect l="l" t="t" r="r" b="b"/>
            <a:pathLst>
              <a:path w="2453" h="1688">
                <a:moveTo>
                  <a:pt x="330" y="952"/>
                </a:moveTo>
                <a:cubicBezTo>
                  <a:pt x="548" y="1142"/>
                  <a:pt x="1109" y="1330"/>
                  <a:pt x="1446" y="1433"/>
                </a:cubicBezTo>
                <a:cubicBezTo>
                  <a:pt x="1783" y="1536"/>
                  <a:pt x="2245" y="1688"/>
                  <a:pt x="2349" y="1570"/>
                </a:cubicBezTo>
                <a:cubicBezTo>
                  <a:pt x="2453" y="1452"/>
                  <a:pt x="2267" y="977"/>
                  <a:pt x="2070" y="727"/>
                </a:cubicBezTo>
                <a:cubicBezTo>
                  <a:pt x="1873" y="477"/>
                  <a:pt x="1492" y="144"/>
                  <a:pt x="1170" y="72"/>
                </a:cubicBezTo>
                <a:cubicBezTo>
                  <a:pt x="848" y="0"/>
                  <a:pt x="280" y="146"/>
                  <a:pt x="140" y="293"/>
                </a:cubicBezTo>
                <a:cubicBezTo>
                  <a:pt x="0" y="440"/>
                  <a:pt x="158" y="758"/>
                  <a:pt x="330" y="952"/>
                </a:cubicBez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102280" y="4218120"/>
            <a:ext cx="2975040" cy="2433600"/>
          </a:xfrm>
          <a:custGeom>
            <a:avLst/>
            <a:gdLst/>
            <a:ahLst/>
            <a:rect l="l" t="t" r="r" b="b"/>
            <a:pathLst>
              <a:path w="2015" h="1671">
                <a:moveTo>
                  <a:pt x="268" y="904"/>
                </a:moveTo>
                <a:cubicBezTo>
                  <a:pt x="192" y="1106"/>
                  <a:pt x="0" y="1539"/>
                  <a:pt x="138" y="1605"/>
                </a:cubicBezTo>
                <a:cubicBezTo>
                  <a:pt x="276" y="1671"/>
                  <a:pt x="792" y="1512"/>
                  <a:pt x="1094" y="1302"/>
                </a:cubicBezTo>
                <a:cubicBezTo>
                  <a:pt x="1396" y="1092"/>
                  <a:pt x="1883" y="562"/>
                  <a:pt x="1949" y="346"/>
                </a:cubicBezTo>
                <a:cubicBezTo>
                  <a:pt x="2015" y="130"/>
                  <a:pt x="1718" y="0"/>
                  <a:pt x="1492" y="8"/>
                </a:cubicBezTo>
                <a:cubicBezTo>
                  <a:pt x="1266" y="16"/>
                  <a:pt x="799" y="245"/>
                  <a:pt x="595" y="394"/>
                </a:cubicBezTo>
                <a:cubicBezTo>
                  <a:pt x="391" y="543"/>
                  <a:pt x="344" y="702"/>
                  <a:pt x="268" y="904"/>
                </a:cubicBez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522440" y="4653000"/>
            <a:ext cx="709560" cy="6303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373480" y="4583160"/>
            <a:ext cx="70776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152880" y="5353200"/>
            <a:ext cx="70776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145040" y="5911920"/>
            <a:ext cx="708120" cy="63000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76320" y="3394080"/>
            <a:ext cx="709560" cy="6303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14600" y="2484360"/>
            <a:ext cx="708120" cy="6303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22720" y="1925640"/>
            <a:ext cx="70956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790800" y="2765520"/>
            <a:ext cx="70812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781520" y="3114720"/>
            <a:ext cx="70956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419800" y="2274840"/>
            <a:ext cx="709560" cy="6303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340320" y="2554200"/>
            <a:ext cx="709920" cy="6303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978600" y="3463920"/>
            <a:ext cx="709560" cy="6303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07040" y="5842080"/>
            <a:ext cx="70956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916600" y="5423040"/>
            <a:ext cx="70812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199200" y="4583160"/>
            <a:ext cx="70956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191360" y="4233960"/>
            <a:ext cx="70812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ee Arrangemen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3962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429000" y="2438280"/>
            <a:ext cx="3048120" cy="2895480"/>
            <a:chOff x="3429000" y="2438280"/>
            <a:chExt cx="3048120" cy="2895480"/>
          </a:xfrm>
        </p:grpSpPr>
        <p:sp>
          <p:nvSpPr>
            <p:cNvPr id="475" name=""/>
            <p:cNvSpPr/>
            <p:nvPr/>
          </p:nvSpPr>
          <p:spPr>
            <a:xfrm>
              <a:off x="4905360" y="2438280"/>
              <a:ext cx="180720" cy="234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940920" y="2673000"/>
              <a:ext cx="963720" cy="10958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664520" y="2751120"/>
              <a:ext cx="300960" cy="10173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86080" y="2673000"/>
              <a:ext cx="964080" cy="10958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25960" y="2751120"/>
              <a:ext cx="300960" cy="10173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30320" y="3846960"/>
              <a:ext cx="180720" cy="2347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2900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0216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7424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4596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3533040" y="4081680"/>
              <a:ext cx="257040" cy="10011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698640" y="4078800"/>
              <a:ext cx="123120" cy="101052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35800" y="4097880"/>
              <a:ext cx="22320" cy="9914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50560" y="4081680"/>
              <a:ext cx="180720" cy="10173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13320" y="3846960"/>
              <a:ext cx="180720" cy="2347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1236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8552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5760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2968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316400" y="4081680"/>
              <a:ext cx="257040" cy="10011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4481640" y="4078800"/>
              <a:ext cx="122760" cy="101052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19160" y="4097880"/>
              <a:ext cx="22320" cy="9914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34280" y="4081680"/>
              <a:ext cx="180720" cy="10173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97040" y="3846960"/>
              <a:ext cx="180720" cy="2347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9572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6888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34096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1268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100120" y="4081680"/>
              <a:ext cx="257040" cy="10011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265360" y="4078800"/>
              <a:ext cx="122760" cy="101052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02160" y="4097880"/>
              <a:ext cx="22680" cy="9914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17280" y="4081680"/>
              <a:ext cx="180720" cy="10173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80400" y="3846960"/>
              <a:ext cx="180720" cy="2347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7908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5224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12432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29640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883120" y="4081680"/>
              <a:ext cx="257040" cy="10011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048720" y="4078800"/>
              <a:ext cx="123120" cy="101052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85880" y="4097880"/>
              <a:ext cx="22320" cy="9914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01000" y="4081680"/>
              <a:ext cx="180720" cy="10173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0" y="2666880"/>
            <a:ext cx="3048120" cy="2667240"/>
            <a:chOff x="0" y="2666880"/>
            <a:chExt cx="3048120" cy="2667240"/>
          </a:xfrm>
        </p:grpSpPr>
        <p:sp>
          <p:nvSpPr>
            <p:cNvPr id="517" name=""/>
            <p:cNvSpPr/>
            <p:nvPr/>
          </p:nvSpPr>
          <p:spPr>
            <a:xfrm>
              <a:off x="38160" y="2755440"/>
              <a:ext cx="2866320" cy="2483640"/>
            </a:xfrm>
            <a:custGeom>
              <a:avLst/>
              <a:gdLst/>
              <a:ahLst/>
              <a:rect l="l" t="t" r="r" b="b"/>
              <a:pathLst>
                <a:path w="4320" h="3082">
                  <a:moveTo>
                    <a:pt x="447" y="1200"/>
                  </a:moveTo>
                  <a:cubicBezTo>
                    <a:pt x="691" y="941"/>
                    <a:pt x="1179" y="65"/>
                    <a:pt x="1484" y="32"/>
                  </a:cubicBezTo>
                  <a:cubicBezTo>
                    <a:pt x="1789" y="0"/>
                    <a:pt x="1992" y="984"/>
                    <a:pt x="2277" y="1006"/>
                  </a:cubicBezTo>
                  <a:cubicBezTo>
                    <a:pt x="2562" y="1027"/>
                    <a:pt x="2856" y="65"/>
                    <a:pt x="3192" y="162"/>
                  </a:cubicBezTo>
                  <a:cubicBezTo>
                    <a:pt x="3527" y="259"/>
                    <a:pt x="4320" y="1243"/>
                    <a:pt x="4290" y="1589"/>
                  </a:cubicBezTo>
                  <a:cubicBezTo>
                    <a:pt x="4259" y="1935"/>
                    <a:pt x="3110" y="2054"/>
                    <a:pt x="3009" y="2238"/>
                  </a:cubicBezTo>
                  <a:cubicBezTo>
                    <a:pt x="2907" y="2422"/>
                    <a:pt x="3913" y="2573"/>
                    <a:pt x="3680" y="2692"/>
                  </a:cubicBezTo>
                  <a:cubicBezTo>
                    <a:pt x="3446" y="2811"/>
                    <a:pt x="2001" y="3082"/>
                    <a:pt x="1606" y="2952"/>
                  </a:cubicBezTo>
                  <a:cubicBezTo>
                    <a:pt x="1211" y="2822"/>
                    <a:pt x="1481" y="2042"/>
                    <a:pt x="1308" y="1912"/>
                  </a:cubicBezTo>
                  <a:cubicBezTo>
                    <a:pt x="1135" y="1782"/>
                    <a:pt x="784" y="2227"/>
                    <a:pt x="569" y="2173"/>
                  </a:cubicBezTo>
                  <a:cubicBezTo>
                    <a:pt x="354" y="2119"/>
                    <a:pt x="41" y="1752"/>
                    <a:pt x="20" y="1589"/>
                  </a:cubicBezTo>
                  <a:cubicBezTo>
                    <a:pt x="0" y="1427"/>
                    <a:pt x="203" y="1460"/>
                    <a:pt x="447" y="1200"/>
                  </a:cubicBezTo>
                  <a:close/>
                </a:path>
              </a:pathLst>
            </a:custGeom>
            <a:noFill/>
            <a:ln w="38160">
              <a:solidFill>
                <a:srgbClr val="c1bc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377400">
              <a:off x="1375560" y="5106960"/>
              <a:ext cx="127440" cy="77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1432080" y="4965840"/>
              <a:ext cx="111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20809800">
              <a:off x="1853280" y="5037120"/>
              <a:ext cx="127440" cy="774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1879920" y="4907880"/>
              <a:ext cx="37800" cy="16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0839200">
              <a:off x="2326320" y="4341960"/>
              <a:ext cx="127080" cy="77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2342160" y="4207680"/>
              <a:ext cx="50040" cy="16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19752000">
              <a:off x="611640" y="4341240"/>
              <a:ext cx="127440" cy="774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593280" y="4227120"/>
              <a:ext cx="86760" cy="14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5031600">
              <a:off x="884520" y="4696200"/>
              <a:ext cx="154440" cy="63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961560" y="4706280"/>
              <a:ext cx="13932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9367400">
              <a:off x="2765160" y="4109040"/>
              <a:ext cx="127440" cy="774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2731320" y="4009680"/>
              <a:ext cx="102600" cy="13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1880600">
              <a:off x="2203560" y="4713480"/>
              <a:ext cx="127440" cy="77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2206800" y="4753440"/>
              <a:ext cx="709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4499000">
              <a:off x="1266480" y="3264480"/>
              <a:ext cx="154440" cy="63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1210680" y="3296520"/>
              <a:ext cx="1292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0800000">
              <a:off x="961920" y="2755440"/>
              <a:ext cx="127440" cy="77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25640" y="279324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3861800">
              <a:off x="2700000" y="3651480"/>
              <a:ext cx="154440" cy="63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2663280" y="3691080"/>
              <a:ext cx="1141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3647000">
              <a:off x="2381400" y="3148560"/>
              <a:ext cx="154440" cy="63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348640" y="3183480"/>
              <a:ext cx="107280" cy="9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734200">
              <a:off x="144000" y="4318920"/>
              <a:ext cx="154440" cy="637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23200" y="4236120"/>
              <a:ext cx="109800" cy="10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888200">
              <a:off x="617760" y="3110040"/>
              <a:ext cx="154440" cy="63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0480" y="3156120"/>
              <a:ext cx="114480" cy="8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8107200">
              <a:off x="325080" y="3606480"/>
              <a:ext cx="127440" cy="77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7280" y="3643920"/>
              <a:ext cx="126720" cy="11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8107200">
              <a:off x="1917000" y="2948400"/>
              <a:ext cx="127440" cy="774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69920" y="2986200"/>
              <a:ext cx="126720" cy="11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8107200">
              <a:off x="1614240" y="3451680"/>
              <a:ext cx="127080" cy="77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67160" y="3489120"/>
              <a:ext cx="126720" cy="11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1520" y="2666880"/>
              <a:ext cx="1297080" cy="1222200"/>
            </a:xfrm>
            <a:custGeom>
              <a:avLst/>
              <a:gdLst/>
              <a:ahLst/>
              <a:rect l="l" t="t" r="r" b="b"/>
              <a:pathLst>
                <a:path w="1955" h="1517">
                  <a:moveTo>
                    <a:pt x="58" y="1286"/>
                  </a:moveTo>
                  <a:cubicBezTo>
                    <a:pt x="116" y="1441"/>
                    <a:pt x="424" y="1517"/>
                    <a:pt x="706" y="1511"/>
                  </a:cubicBezTo>
                  <a:cubicBezTo>
                    <a:pt x="988" y="1505"/>
                    <a:pt x="1563" y="1468"/>
                    <a:pt x="1751" y="1250"/>
                  </a:cubicBezTo>
                  <a:cubicBezTo>
                    <a:pt x="1939" y="1032"/>
                    <a:pt x="1955" y="404"/>
                    <a:pt x="1833" y="206"/>
                  </a:cubicBezTo>
                  <a:cubicBezTo>
                    <a:pt x="1711" y="8"/>
                    <a:pt x="1262" y="0"/>
                    <a:pt x="1017" y="62"/>
                  </a:cubicBezTo>
                  <a:cubicBezTo>
                    <a:pt x="772" y="124"/>
                    <a:pt x="521" y="375"/>
                    <a:pt x="361" y="579"/>
                  </a:cubicBezTo>
                  <a:cubicBezTo>
                    <a:pt x="201" y="783"/>
                    <a:pt x="0" y="1131"/>
                    <a:pt x="58" y="1286"/>
                  </a:cubicBez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65640" y="2801160"/>
              <a:ext cx="1422360" cy="1184760"/>
            </a:xfrm>
            <a:custGeom>
              <a:avLst/>
              <a:gdLst/>
              <a:ahLst/>
              <a:rect l="l" t="t" r="r" b="b"/>
              <a:pathLst>
                <a:path w="2144" h="1470">
                  <a:moveTo>
                    <a:pt x="1" y="881"/>
                  </a:moveTo>
                  <a:cubicBezTo>
                    <a:pt x="42" y="1081"/>
                    <a:pt x="214" y="1247"/>
                    <a:pt x="535" y="1327"/>
                  </a:cubicBezTo>
                  <a:cubicBezTo>
                    <a:pt x="856" y="1407"/>
                    <a:pt x="1716" y="1470"/>
                    <a:pt x="1930" y="1362"/>
                  </a:cubicBezTo>
                  <a:cubicBezTo>
                    <a:pt x="2144" y="1254"/>
                    <a:pt x="1904" y="886"/>
                    <a:pt x="1818" y="679"/>
                  </a:cubicBezTo>
                  <a:cubicBezTo>
                    <a:pt x="1732" y="472"/>
                    <a:pt x="1668" y="213"/>
                    <a:pt x="1414" y="121"/>
                  </a:cubicBezTo>
                  <a:cubicBezTo>
                    <a:pt x="1160" y="29"/>
                    <a:pt x="526" y="0"/>
                    <a:pt x="291" y="127"/>
                  </a:cubicBezTo>
                  <a:cubicBezTo>
                    <a:pt x="56" y="254"/>
                    <a:pt x="0" y="648"/>
                    <a:pt x="1" y="881"/>
                  </a:cubicBez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0" y="3974040"/>
              <a:ext cx="1627560" cy="1360080"/>
            </a:xfrm>
            <a:custGeom>
              <a:avLst/>
              <a:gdLst/>
              <a:ahLst/>
              <a:rect l="l" t="t" r="r" b="b"/>
              <a:pathLst>
                <a:path w="2453" h="1688">
                  <a:moveTo>
                    <a:pt x="330" y="952"/>
                  </a:moveTo>
                  <a:cubicBezTo>
                    <a:pt x="548" y="1142"/>
                    <a:pt x="1109" y="1330"/>
                    <a:pt x="1446" y="1433"/>
                  </a:cubicBezTo>
                  <a:cubicBezTo>
                    <a:pt x="1783" y="1536"/>
                    <a:pt x="2245" y="1688"/>
                    <a:pt x="2349" y="1570"/>
                  </a:cubicBezTo>
                  <a:cubicBezTo>
                    <a:pt x="2453" y="1452"/>
                    <a:pt x="2267" y="977"/>
                    <a:pt x="2070" y="727"/>
                  </a:cubicBezTo>
                  <a:cubicBezTo>
                    <a:pt x="1873" y="477"/>
                    <a:pt x="1492" y="144"/>
                    <a:pt x="1170" y="72"/>
                  </a:cubicBezTo>
                  <a:cubicBezTo>
                    <a:pt x="848" y="0"/>
                    <a:pt x="280" y="146"/>
                    <a:pt x="140" y="293"/>
                  </a:cubicBezTo>
                  <a:cubicBezTo>
                    <a:pt x="0" y="440"/>
                    <a:pt x="158" y="758"/>
                    <a:pt x="330" y="952"/>
                  </a:cubicBez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11080" y="3945600"/>
              <a:ext cx="1337040" cy="1346400"/>
            </a:xfrm>
            <a:custGeom>
              <a:avLst/>
              <a:gdLst/>
              <a:ahLst/>
              <a:rect l="l" t="t" r="r" b="b"/>
              <a:pathLst>
                <a:path w="2015" h="1671">
                  <a:moveTo>
                    <a:pt x="268" y="904"/>
                  </a:moveTo>
                  <a:cubicBezTo>
                    <a:pt x="192" y="1106"/>
                    <a:pt x="0" y="1539"/>
                    <a:pt x="138" y="1605"/>
                  </a:cubicBezTo>
                  <a:cubicBezTo>
                    <a:pt x="276" y="1671"/>
                    <a:pt x="792" y="1512"/>
                    <a:pt x="1094" y="1302"/>
                  </a:cubicBezTo>
                  <a:cubicBezTo>
                    <a:pt x="1396" y="1092"/>
                    <a:pt x="1883" y="562"/>
                    <a:pt x="1949" y="346"/>
                  </a:cubicBezTo>
                  <a:cubicBezTo>
                    <a:pt x="2015" y="130"/>
                    <a:pt x="1718" y="0"/>
                    <a:pt x="1492" y="8"/>
                  </a:cubicBezTo>
                  <a:cubicBezTo>
                    <a:pt x="1266" y="16"/>
                    <a:pt x="799" y="245"/>
                    <a:pt x="595" y="394"/>
                  </a:cubicBezTo>
                  <a:cubicBezTo>
                    <a:pt x="391" y="543"/>
                    <a:pt x="344" y="702"/>
                    <a:pt x="268" y="904"/>
                  </a:cubicBez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1880" y="418680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4200" y="414792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34480" y="457344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80520" y="488304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61360" y="349020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7920" y="298728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66520" y="267804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121400" y="314208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67080" y="333540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53640" y="287136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68000" y="302616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54560" y="352908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58240" y="484416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76840" y="461196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03920" y="414792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649960" y="395460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010280" y="2971800"/>
            <a:ext cx="1981080" cy="1980720"/>
            <a:chOff x="7010280" y="2971800"/>
            <a:chExt cx="1981080" cy="1980720"/>
          </a:xfrm>
        </p:grpSpPr>
        <p:sp>
          <p:nvSpPr>
            <p:cNvPr id="571" name=""/>
            <p:cNvSpPr/>
            <p:nvPr/>
          </p:nvSpPr>
          <p:spPr>
            <a:xfrm>
              <a:off x="7010280" y="2971800"/>
              <a:ext cx="1981080" cy="1980720"/>
            </a:xfrm>
            <a:prstGeom prst="rect">
              <a:avLst/>
            </a:prstGeom>
            <a:noFill/>
            <a:ln w="38160">
              <a:solidFill>
                <a:srgbClr val="d7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553960" y="317592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200000" y="317592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101440" y="317592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50720" y="317592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553960" y="451332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200000" y="451332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01440" y="451332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50720" y="451332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553960" y="360540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00000" y="360540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101440" y="360540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50720" y="360540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553960" y="408096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00000" y="408096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101440" y="408096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50720" y="408096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138800" y="3100320"/>
              <a:ext cx="812160" cy="81180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038800" y="3101760"/>
              <a:ext cx="812160" cy="8121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40240" y="4000320"/>
              <a:ext cx="812160" cy="8121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38800" y="4000320"/>
              <a:ext cx="812160" cy="8121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6400800" y="3962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Wavelet Compress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47760" y="1809720"/>
            <a:ext cx="612936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form rows into Haar wavele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move small coefficie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76320" y="3781440"/>
            <a:ext cx="1752480" cy="2850480"/>
            <a:chOff x="76320" y="3781440"/>
            <a:chExt cx="1752480" cy="2850480"/>
          </a:xfrm>
        </p:grpSpPr>
        <p:sp>
          <p:nvSpPr>
            <p:cNvPr id="596" name=""/>
            <p:cNvSpPr/>
            <p:nvPr/>
          </p:nvSpPr>
          <p:spPr>
            <a:xfrm>
              <a:off x="549360" y="4241880"/>
              <a:ext cx="1260360" cy="1949400"/>
            </a:xfrm>
            <a:prstGeom prst="rect">
              <a:avLst/>
            </a:prstGeom>
            <a:solidFill>
              <a:srgbClr val="00583d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58880" y="3781440"/>
              <a:ext cx="8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64k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6200000">
              <a:off x="-125280" y="493092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300k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0880" y="61722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Dense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3781440"/>
            <a:ext cx="1828800" cy="2850480"/>
            <a:chOff x="2362320" y="3781440"/>
            <a:chExt cx="1828800" cy="2850480"/>
          </a:xfrm>
        </p:grpSpPr>
        <p:sp>
          <p:nvSpPr>
            <p:cNvPr id="601" name=""/>
            <p:cNvSpPr/>
            <p:nvPr/>
          </p:nvSpPr>
          <p:spPr>
            <a:xfrm>
              <a:off x="2835360" y="4241880"/>
              <a:ext cx="1260360" cy="19494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44880" y="3781440"/>
              <a:ext cx="8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64k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6200000">
              <a:off x="2160360" y="493092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300k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48120" y="446724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57600" y="454356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24080" y="5000760"/>
              <a:ext cx="15264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05320" y="515304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00400" y="583884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71800" y="538164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09880" y="5610240"/>
              <a:ext cx="15264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52680" y="4619520"/>
              <a:ext cx="15264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43200" y="61722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Sparse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238880" y="4124160"/>
            <a:ext cx="1905120" cy="2584440"/>
            <a:chOff x="7238880" y="4124160"/>
            <a:chExt cx="1905120" cy="2584440"/>
          </a:xfrm>
        </p:grpSpPr>
        <p:sp>
          <p:nvSpPr>
            <p:cNvPr id="614" name=""/>
            <p:cNvSpPr/>
            <p:nvPr/>
          </p:nvSpPr>
          <p:spPr>
            <a:xfrm>
              <a:off x="7711920" y="4584240"/>
              <a:ext cx="1260720" cy="12924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921800" y="4124160"/>
              <a:ext cx="8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64k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6200000">
              <a:off x="7036920" y="4986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64k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24680" y="4733640"/>
              <a:ext cx="15264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534520" y="480996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305920" y="496224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686800" y="526716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848720" y="5343120"/>
              <a:ext cx="15228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381880" y="5571720"/>
              <a:ext cx="15264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67480" y="58831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Even more sparse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029200" y="4095720"/>
            <a:ext cx="1828800" cy="2218680"/>
            <a:chOff x="5029200" y="4095720"/>
            <a:chExt cx="1828800" cy="2218680"/>
          </a:xfrm>
        </p:grpSpPr>
        <p:sp>
          <p:nvSpPr>
            <p:cNvPr id="625" name=""/>
            <p:cNvSpPr/>
            <p:nvPr/>
          </p:nvSpPr>
          <p:spPr>
            <a:xfrm>
              <a:off x="5502240" y="4555800"/>
              <a:ext cx="1260720" cy="12924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2120" y="4095720"/>
              <a:ext cx="8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64k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4827240" y="49575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64k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3600" y="4705200"/>
              <a:ext cx="15264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324840" y="478152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5238720"/>
              <a:ext cx="15264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96240" y="5314680"/>
              <a:ext cx="15228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39040" y="561960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62720" y="4628880"/>
              <a:ext cx="15228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10440" y="58546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Sparse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43600" y="5010120"/>
              <a:ext cx="15264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553440" y="5086080"/>
              <a:ext cx="15228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943600" y="5543280"/>
              <a:ext cx="15264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324840" y="5543280"/>
              <a:ext cx="15228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62720" y="501012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24840" y="5086080"/>
              <a:ext cx="15228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53440" y="4628880"/>
              <a:ext cx="15228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53440" y="539100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1952640" y="52293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0" y="52293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3276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 gather matrix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86400" y="3629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bounce matrix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olumns of the Wavelet-Transformed Matrix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352680" y="4352400"/>
            <a:ext cx="6098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4876560" y="4352400"/>
            <a:ext cx="10666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657600" y="4695840"/>
            <a:ext cx="1981080" cy="1485720"/>
          </a:xfrm>
          <a:prstGeom prst="rect">
            <a:avLst/>
          </a:prstGeom>
          <a:ln w="12600">
            <a:solidFill>
              <a:srgbClr val="c1bc7b"/>
            </a:solidFill>
            <a:miter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5791320" y="4695840"/>
            <a:ext cx="1981080" cy="1485720"/>
          </a:xfrm>
          <a:prstGeom prst="rect">
            <a:avLst/>
          </a:prstGeom>
          <a:ln w="12600">
            <a:solidFill>
              <a:srgbClr val="c1bc7b"/>
            </a:solidFill>
            <a:miter/>
          </a:ln>
        </p:spPr>
      </p:pic>
      <p:sp>
        <p:nvSpPr>
          <p:cNvPr id="652" name=""/>
          <p:cNvSpPr/>
          <p:nvPr/>
        </p:nvSpPr>
        <p:spPr>
          <a:xfrm>
            <a:off x="2209680" y="6324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s lit by wavelet light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3"/>
          <a:stretch/>
        </p:blipFill>
        <p:spPr>
          <a:xfrm>
            <a:off x="1600200" y="4695840"/>
            <a:ext cx="1981080" cy="148572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sp>
        <p:nvSpPr>
          <p:cNvPr id="654" name=""/>
          <p:cNvSpPr/>
          <p:nvPr/>
        </p:nvSpPr>
        <p:spPr>
          <a:xfrm>
            <a:off x="3886200" y="2362320"/>
            <a:ext cx="1371600" cy="1914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75120" y="2362320"/>
            <a:ext cx="1800" cy="1914480"/>
          </a:xfrm>
          <a:prstGeom prst="line">
            <a:avLst/>
          </a:prstGeom>
          <a:ln w="28440">
            <a:solidFill>
              <a:srgbClr val="c1bc7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0" y="1828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 gather matrix in wavelet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417920" y="2362320"/>
            <a:ext cx="1800" cy="1914480"/>
          </a:xfrm>
          <a:prstGeom prst="line">
            <a:avLst/>
          </a:prstGeom>
          <a:ln w="28440">
            <a:solidFill>
              <a:srgbClr val="c1bc7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38480" y="2362320"/>
            <a:ext cx="1800" cy="1914480"/>
          </a:xfrm>
          <a:prstGeom prst="line">
            <a:avLst/>
          </a:prstGeom>
          <a:ln w="28440">
            <a:solidFill>
              <a:srgbClr val="c1bc7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4419360" y="435240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Full System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-76320" y="1749600"/>
            <a:ext cx="1981440" cy="2210760"/>
            <a:chOff x="-76320" y="1749600"/>
            <a:chExt cx="1981440" cy="2210760"/>
          </a:xfrm>
        </p:grpSpPr>
        <p:pic>
          <p:nvPicPr>
            <p:cNvPr id="662" name="Rectangle 3" descr=""/>
            <p:cNvPicPr/>
            <p:nvPr/>
          </p:nvPicPr>
          <p:blipFill>
            <a:blip r:embed="rId1"/>
            <a:stretch/>
          </p:blipFill>
          <p:spPr>
            <a:xfrm>
              <a:off x="79200" y="2284200"/>
              <a:ext cx="16686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-76320" y="174960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rect on gather</a:t>
              </a:r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959440" y="1751040"/>
            <a:ext cx="2133720" cy="2206080"/>
            <a:chOff x="5959440" y="1751040"/>
            <a:chExt cx="2133720" cy="2206080"/>
          </a:xfrm>
        </p:grpSpPr>
        <p:pic>
          <p:nvPicPr>
            <p:cNvPr id="665" name="Rectangle 3" descr=""/>
            <p:cNvPicPr/>
            <p:nvPr/>
          </p:nvPicPr>
          <p:blipFill>
            <a:blip r:embed="rId2"/>
            <a:stretch/>
          </p:blipFill>
          <p:spPr>
            <a:xfrm>
              <a:off x="6188040" y="2288880"/>
              <a:ext cx="1676520" cy="16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5959440" y="175104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r + Ind on gather</a:t>
              </a:r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3276720" y="6354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rect on view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965320" y="1612800"/>
            <a:ext cx="1981080" cy="2349360"/>
            <a:chOff x="2965320" y="1612800"/>
            <a:chExt cx="1981080" cy="2349360"/>
          </a:xfrm>
        </p:grpSpPr>
        <p:pic>
          <p:nvPicPr>
            <p:cNvPr id="669" name="Rectangle 3" descr=""/>
            <p:cNvPicPr/>
            <p:nvPr/>
          </p:nvPicPr>
          <p:blipFill>
            <a:blip r:embed="rId3"/>
            <a:stretch/>
          </p:blipFill>
          <p:spPr>
            <a:xfrm>
              <a:off x="3117600" y="2285640"/>
              <a:ext cx="1676520" cy="1676520"/>
            </a:xfrm>
            <a:prstGeom prst="rect">
              <a:avLst/>
            </a:prstGeom>
            <a:ln w="12600">
              <a:solidFill>
                <a:srgbClr val="c1bc7b"/>
              </a:solidFill>
              <a:miter/>
            </a:ln>
          </p:spPr>
        </p:pic>
        <p:sp>
          <p:nvSpPr>
            <p:cNvPr id="670" name=""/>
            <p:cNvSpPr/>
            <p:nvPr/>
          </p:nvSpPr>
          <p:spPr>
            <a:xfrm>
              <a:off x="2965320" y="161280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rect on gather in wavelet space</a:t>
              </a:r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pic>
        <p:nvPicPr>
          <p:cNvPr id="671" name="" descr=""/>
          <p:cNvPicPr/>
          <p:nvPr/>
        </p:nvPicPr>
        <p:blipFill>
          <a:blip r:embed="rId4"/>
          <a:stretch/>
        </p:blipFill>
        <p:spPr>
          <a:xfrm>
            <a:off x="152280" y="4552920"/>
            <a:ext cx="1676520" cy="165744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sp>
        <p:nvSpPr>
          <p:cNvPr id="672" name=""/>
          <p:cNvSpPr/>
          <p:nvPr/>
        </p:nvSpPr>
        <p:spPr>
          <a:xfrm>
            <a:off x="-76320" y="6216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 + Ind on gather in wavelet space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916280" y="2797200"/>
            <a:ext cx="10378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let Xform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077320" y="2778120"/>
            <a:ext cx="10382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let Xform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3219480" y="4581360"/>
            <a:ext cx="2247840" cy="16862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858000" y="461016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4976640" y="2260440"/>
            <a:ext cx="990720" cy="173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-bounce matrix in waveletspace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028960" y="4537080"/>
            <a:ext cx="990360" cy="173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l gather matrix in waveletspace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972480" y="6354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l Image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667480" y="5056200"/>
            <a:ext cx="990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direct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61048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990720" y="4267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99072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752480" y="31240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1800" y="3124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800600" y="3124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10200" y="31240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886880" y="3124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828800" y="5410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48120" y="5410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705720" y="5410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486400" y="5410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irect-to-Indirect Transfer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809720"/>
            <a:ext cx="8415360" cy="30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rect illumination from local ligh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 known techniq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ep frame-buffer, shadow ma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direct illumination – key idea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compute </a:t>
            </a:r>
            <a:r>
              <a:rPr b="0" lang="en-US" sz="2200" spc="-1" strike="noStrike">
                <a:solidFill>
                  <a:srgbClr val="d7e300"/>
                </a:solidFill>
                <a:latin typeface="Arial"/>
              </a:rPr>
              <a:t>direct-to-indirect transfer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tri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ute indirect from direct on the f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5025960"/>
            <a:ext cx="8095680" cy="1834560"/>
            <a:chOff x="533520" y="5025960"/>
            <a:chExt cx="8095680" cy="1834560"/>
          </a:xfrm>
        </p:grpSpPr>
        <p:sp>
          <p:nvSpPr>
            <p:cNvPr id="61" name=""/>
            <p:cNvSpPr/>
            <p:nvPr/>
          </p:nvSpPr>
          <p:spPr>
            <a:xfrm>
              <a:off x="742320" y="6400800"/>
              <a:ext cx="148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rect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94080" y="6400800"/>
              <a:ext cx="22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direct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33080" y="6399360"/>
              <a:ext cx="180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nal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31400" y="5326920"/>
              <a:ext cx="1253520" cy="764280"/>
            </a:xfrm>
            <a:prstGeom prst="rect">
              <a:avLst/>
            </a:prstGeom>
            <a:solidFill>
              <a:srgbClr val="00583d"/>
            </a:solidFill>
            <a:ln w="1260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Transfer matrix</a:t>
              </a:r>
              <a:endParaRPr b="0" lang="en-US" sz="2200" spc="-1" strike="noStrike">
                <a:solidFill>
                  <a:srgbClr val="c1bc7b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4502880" y="5041080"/>
              <a:ext cx="188028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6748920" y="5025960"/>
              <a:ext cx="188028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533520" y="5041080"/>
              <a:ext cx="1880280" cy="12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084920" y="5659200"/>
              <a:ext cx="417600" cy="14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29520" y="5659200"/>
              <a:ext cx="417600" cy="14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13800" y="5659200"/>
              <a:ext cx="417600" cy="14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47760" y="1809720"/>
            <a:ext cx="83390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fer matri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precompu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compres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7e300"/>
                </a:solidFill>
                <a:latin typeface="Arial"/>
              </a:rPr>
              <a:t>Efficient evalu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clusions and future wor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parse Matrix-Vector Multiplicat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380880" y="2819520"/>
            <a:ext cx="2362320" cy="3504960"/>
            <a:chOff x="380880" y="2819520"/>
            <a:chExt cx="2362320" cy="3504960"/>
          </a:xfrm>
        </p:grpSpPr>
        <p:sp>
          <p:nvSpPr>
            <p:cNvPr id="697" name=""/>
            <p:cNvSpPr/>
            <p:nvPr/>
          </p:nvSpPr>
          <p:spPr>
            <a:xfrm>
              <a:off x="380880" y="2819520"/>
              <a:ext cx="2362320" cy="3504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295280" y="2819520"/>
              <a:ext cx="3240" cy="3504960"/>
            </a:xfrm>
            <a:prstGeom prst="line">
              <a:avLst/>
            </a:prstGeom>
            <a:ln w="2844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914400" y="2819520"/>
              <a:ext cx="3240" cy="35049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30480" y="2819520"/>
              <a:ext cx="3240" cy="3504960"/>
            </a:xfrm>
            <a:prstGeom prst="line">
              <a:avLst/>
            </a:prstGeom>
            <a:ln w="28440">
              <a:solidFill>
                <a:srgbClr val="ff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095720" y="3352680"/>
            <a:ext cx="304560" cy="2209680"/>
            <a:chOff x="4095720" y="3352680"/>
            <a:chExt cx="304560" cy="2209680"/>
          </a:xfrm>
        </p:grpSpPr>
        <p:sp>
          <p:nvSpPr>
            <p:cNvPr id="702" name=""/>
            <p:cNvSpPr/>
            <p:nvPr/>
          </p:nvSpPr>
          <p:spPr>
            <a:xfrm>
              <a:off x="4171680" y="3733560"/>
              <a:ext cx="152640" cy="152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71680" y="419076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71680" y="4952880"/>
              <a:ext cx="152640" cy="152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095720" y="3352680"/>
              <a:ext cx="304560" cy="22096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5788080" y="2819520"/>
            <a:ext cx="307800" cy="3504960"/>
            <a:chOff x="5788080" y="2819520"/>
            <a:chExt cx="307800" cy="3504960"/>
          </a:xfrm>
        </p:grpSpPr>
        <p:sp>
          <p:nvSpPr>
            <p:cNvPr id="707" name=""/>
            <p:cNvSpPr/>
            <p:nvPr/>
          </p:nvSpPr>
          <p:spPr>
            <a:xfrm>
              <a:off x="6093000" y="2819520"/>
              <a:ext cx="2880" cy="35049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788080" y="4495680"/>
              <a:ext cx="152280" cy="151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7159680" y="2819520"/>
            <a:ext cx="307440" cy="3504960"/>
            <a:chOff x="7159680" y="2819520"/>
            <a:chExt cx="307440" cy="3504960"/>
          </a:xfrm>
        </p:grpSpPr>
        <p:sp>
          <p:nvSpPr>
            <p:cNvPr id="710" name=""/>
            <p:cNvSpPr/>
            <p:nvPr/>
          </p:nvSpPr>
          <p:spPr>
            <a:xfrm>
              <a:off x="7464240" y="2819520"/>
              <a:ext cx="2880" cy="3504960"/>
            </a:xfrm>
            <a:prstGeom prst="line">
              <a:avLst/>
            </a:prstGeom>
            <a:ln w="2844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59680" y="44956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8458200" y="2819520"/>
            <a:ext cx="304920" cy="3504960"/>
            <a:chOff x="8458200" y="2819520"/>
            <a:chExt cx="304920" cy="3504960"/>
          </a:xfrm>
        </p:grpSpPr>
        <p:sp>
          <p:nvSpPr>
            <p:cNvPr id="713" name=""/>
            <p:cNvSpPr/>
            <p:nvPr/>
          </p:nvSpPr>
          <p:spPr>
            <a:xfrm>
              <a:off x="8759880" y="2819520"/>
              <a:ext cx="3240" cy="3504960"/>
            </a:xfrm>
            <a:prstGeom prst="line">
              <a:avLst/>
            </a:prstGeom>
            <a:ln w="28440">
              <a:solidFill>
                <a:srgbClr val="ff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458200" y="4495680"/>
              <a:ext cx="152280" cy="151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124080" y="4314600"/>
            <a:ext cx="533520" cy="533520"/>
            <a:chOff x="3124080" y="4314600"/>
            <a:chExt cx="533520" cy="533520"/>
          </a:xfrm>
        </p:grpSpPr>
        <p:sp>
          <p:nvSpPr>
            <p:cNvPr id="716" name=""/>
            <p:cNvSpPr/>
            <p:nvPr/>
          </p:nvSpPr>
          <p:spPr>
            <a:xfrm flipV="1">
              <a:off x="3124080" y="4314600"/>
              <a:ext cx="533520" cy="533160"/>
            </a:xfrm>
            <a:prstGeom prst="line">
              <a:avLst/>
            </a:prstGeom>
            <a:ln w="381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124080" y="4314960"/>
              <a:ext cx="533520" cy="533160"/>
            </a:xfrm>
            <a:prstGeom prst="line">
              <a:avLst/>
            </a:prstGeom>
            <a:ln w="381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4800600" y="4419720"/>
            <a:ext cx="533160" cy="304560"/>
            <a:chOff x="4800600" y="4419720"/>
            <a:chExt cx="533160" cy="304560"/>
          </a:xfrm>
        </p:grpSpPr>
        <p:sp>
          <p:nvSpPr>
            <p:cNvPr id="719" name=""/>
            <p:cNvSpPr/>
            <p:nvPr/>
          </p:nvSpPr>
          <p:spPr>
            <a:xfrm>
              <a:off x="4800600" y="4419720"/>
              <a:ext cx="533160" cy="0"/>
            </a:xfrm>
            <a:prstGeom prst="line">
              <a:avLst/>
            </a:prstGeom>
            <a:ln w="381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0600" y="4724280"/>
              <a:ext cx="533160" cy="0"/>
            </a:xfrm>
            <a:prstGeom prst="line">
              <a:avLst/>
            </a:prstGeom>
            <a:ln w="381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6400800" y="4343400"/>
            <a:ext cx="457200" cy="457200"/>
            <a:chOff x="6400800" y="4343400"/>
            <a:chExt cx="457200" cy="457200"/>
          </a:xfrm>
        </p:grpSpPr>
        <p:sp>
          <p:nvSpPr>
            <p:cNvPr id="722" name=""/>
            <p:cNvSpPr/>
            <p:nvPr/>
          </p:nvSpPr>
          <p:spPr>
            <a:xfrm>
              <a:off x="6629400" y="4343400"/>
              <a:ext cx="0" cy="457200"/>
            </a:xfrm>
            <a:prstGeom prst="line">
              <a:avLst/>
            </a:prstGeom>
            <a:ln w="381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00800" y="4572000"/>
              <a:ext cx="457200" cy="0"/>
            </a:xfrm>
            <a:prstGeom prst="line">
              <a:avLst/>
            </a:prstGeom>
            <a:ln w="381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7772400" y="4343400"/>
            <a:ext cx="457200" cy="457200"/>
            <a:chOff x="7772400" y="4343400"/>
            <a:chExt cx="457200" cy="457200"/>
          </a:xfrm>
        </p:grpSpPr>
        <p:sp>
          <p:nvSpPr>
            <p:cNvPr id="725" name=""/>
            <p:cNvSpPr/>
            <p:nvPr/>
          </p:nvSpPr>
          <p:spPr>
            <a:xfrm>
              <a:off x="8001000" y="4343400"/>
              <a:ext cx="0" cy="457200"/>
            </a:xfrm>
            <a:prstGeom prst="line">
              <a:avLst/>
            </a:prstGeom>
            <a:ln w="381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772400" y="4572000"/>
              <a:ext cx="457200" cy="0"/>
            </a:xfrm>
            <a:prstGeom prst="line">
              <a:avLst/>
            </a:prstGeom>
            <a:ln w="381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762120" y="18288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rse matrix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29000" y="1905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rse vector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943600" y="18288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 combination of column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990720" y="424800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pic>
        <p:nvPicPr>
          <p:cNvPr id="732" name="" descr=""/>
          <p:cNvPicPr/>
          <p:nvPr/>
        </p:nvPicPr>
        <p:blipFill>
          <a:blip r:embed="rId3"/>
          <a:stretch/>
        </p:blipFill>
        <p:spPr>
          <a:xfrm>
            <a:off x="1752480" y="541008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pic>
        <p:nvPicPr>
          <p:cNvPr id="733" name="" descr=""/>
          <p:cNvPicPr/>
          <p:nvPr/>
        </p:nvPicPr>
        <p:blipFill>
          <a:blip r:embed="rId4"/>
          <a:stretch/>
        </p:blipFill>
        <p:spPr>
          <a:xfrm>
            <a:off x="6934320" y="548640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pic>
        <p:nvPicPr>
          <p:cNvPr id="734" name="" descr=""/>
          <p:cNvPicPr/>
          <p:nvPr/>
        </p:nvPicPr>
        <p:blipFill>
          <a:blip r:embed="rId5"/>
          <a:stretch/>
        </p:blipFill>
        <p:spPr>
          <a:xfrm>
            <a:off x="5638680" y="550548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pic>
        <p:nvPicPr>
          <p:cNvPr id="735" name="" descr=""/>
          <p:cNvPicPr/>
          <p:nvPr/>
        </p:nvPicPr>
        <p:blipFill>
          <a:blip r:embed="rId6"/>
          <a:stretch/>
        </p:blipFill>
        <p:spPr>
          <a:xfrm>
            <a:off x="8153280" y="548640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parse Matrix-Vector Multiplication on the GPU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47400" y="1809360"/>
            <a:ext cx="5290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umns are sparse themsel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represent on the GP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zero elements tend to cluster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t out rectangular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ck blocks into texture atl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ted problem to blendi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7010280" y="198108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6019920" y="198108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8001000" y="198108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sp>
        <p:nvSpPr>
          <p:cNvPr id="741" name=""/>
          <p:cNvSpPr/>
          <p:nvPr/>
        </p:nvSpPr>
        <p:spPr>
          <a:xfrm>
            <a:off x="6019920" y="1981080"/>
            <a:ext cx="91440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391520" y="205740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696080" y="2438280"/>
            <a:ext cx="152640" cy="152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8229600" y="19810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458200" y="22096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6006960" y="3505320"/>
            <a:ext cx="2886120" cy="313992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sp>
        <p:nvSpPr>
          <p:cNvPr id="747" name=""/>
          <p:cNvSpPr/>
          <p:nvPr/>
        </p:nvSpPr>
        <p:spPr>
          <a:xfrm>
            <a:off x="6553080" y="2800440"/>
            <a:ext cx="0" cy="609480"/>
          </a:xfrm>
          <a:prstGeom prst="line">
            <a:avLst/>
          </a:prstGeom>
          <a:ln w="9360">
            <a:solidFill>
              <a:srgbClr val="d7e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620120" y="2800440"/>
            <a:ext cx="0" cy="609480"/>
          </a:xfrm>
          <a:prstGeom prst="line">
            <a:avLst/>
          </a:prstGeom>
          <a:ln w="9360">
            <a:solidFill>
              <a:srgbClr val="d7e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534520" y="2800440"/>
            <a:ext cx="0" cy="609480"/>
          </a:xfrm>
          <a:prstGeom prst="line">
            <a:avLst/>
          </a:prstGeom>
          <a:ln w="9360">
            <a:solidFill>
              <a:srgbClr val="d7e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: Still Lif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28600" y="6186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omputation: 1.6 hours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238560" y="6186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4 – 18.7 fps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172200" y="6186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gon count: 107k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754" name="Rectangle 3" descr=""/>
          <p:cNvPicPr/>
          <p:nvPr/>
        </p:nvPicPr>
        <p:blipFill>
          <a:blip r:embed="rId1"/>
          <a:stretch/>
        </p:blipFill>
        <p:spPr>
          <a:xfrm>
            <a:off x="2117880" y="21337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6542" fill="hold"/>
                                        <p:tgtEl>
                                          <p:spTgt spid="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754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1" dur="1" fill="hold"/>
                                        <p:tgtEl>
                                          <p:spTgt spid="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: Te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28600" y="6186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omputation: 2.5 hours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38560" y="6186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5 – 25.8 fps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172200" y="6186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gon count: 2 million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759" name="Rectangle 3" descr=""/>
          <p:cNvPicPr/>
          <p:nvPr/>
        </p:nvPicPr>
        <p:blipFill>
          <a:blip r:embed="rId1"/>
          <a:stretch/>
        </p:blipFill>
        <p:spPr>
          <a:xfrm>
            <a:off x="2117880" y="21337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17000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2" dur="1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: Hair Bal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28600" y="6186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omputation: 2.9 hours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238560" y="6186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7 – 24.7 fps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6186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gon count: 320k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764" name="Rectangle 3" descr=""/>
          <p:cNvPicPr/>
          <p:nvPr/>
        </p:nvPicPr>
        <p:blipFill>
          <a:blip r:embed="rId1"/>
          <a:stretch/>
        </p:blipFill>
        <p:spPr>
          <a:xfrm>
            <a:off x="2117880" y="21337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2792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764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3" dur="1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: Sponza Atrium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6186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omputation: 1.5 hours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238560" y="6186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me-rate: 13.7 – 24.9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172200" y="6186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gon count: 66k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769" name="Rectangle 3" descr=""/>
          <p:cNvPicPr/>
          <p:nvPr/>
        </p:nvPicPr>
        <p:blipFill>
          <a:blip r:embed="rId1"/>
          <a:stretch/>
        </p:blipFill>
        <p:spPr>
          <a:xfrm>
            <a:off x="2117880" y="21337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4000" fill="hold"/>
                                        <p:tgtEl>
                                          <p:spTgt spid="7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4" dur="1" fill="hold"/>
                                        <p:tgtEl>
                                          <p:spTgt spid="7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mparis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Rectangle 3" descr=""/>
          <p:cNvPicPr/>
          <p:nvPr/>
        </p:nvPicPr>
        <p:blipFill>
          <a:blip r:embed="rId1"/>
          <a:stretch/>
        </p:blipFill>
        <p:spPr>
          <a:xfrm>
            <a:off x="347760" y="2286000"/>
            <a:ext cx="4130640" cy="3098880"/>
          </a:xfrm>
          <a:prstGeom prst="rect">
            <a:avLst/>
          </a:prstGeom>
          <a:ln w="0">
            <a:noFill/>
          </a:ln>
        </p:spPr>
      </p:pic>
      <p:pic>
        <p:nvPicPr>
          <p:cNvPr id="772" name="Rectangle 3" descr=""/>
          <p:cNvPicPr/>
          <p:nvPr/>
        </p:nvPicPr>
        <p:blipFill>
          <a:blip r:embed="rId2"/>
          <a:stretch/>
        </p:blipFill>
        <p:spPr>
          <a:xfrm>
            <a:off x="4630680" y="2292480"/>
            <a:ext cx="4132440" cy="30924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685800" y="57150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system: 8-25 fps (2.5 hr precomputation)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952880" y="57150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e Carlo path tracer: 32 hour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77724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 and Future Wor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47400" y="1809360"/>
            <a:ext cx="8643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d cinematic relighting with indirect illumin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active performance (GPU), complex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bitrary light shaders, efficient precompu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vironment mapp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surface scatte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ving came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5486400" y="4121280"/>
            <a:ext cx="3429000" cy="255564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4648320" y="4981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8415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SF grant CCF-053999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uce Walter (code, suppor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onica Sunstedt, Patrick Ledda (Templ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rko Dabrovic (Sponza atriu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rnell animation TA’s (Still lif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xar, NVid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-mail: mhasan@cs.cornell.ed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nteractive Dem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lated Wor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7400" y="1809360"/>
            <a:ext cx="856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ematic relighting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Gershbein 00; Pellacini 05, Tabellion 04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omputed radiance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Sloan 02, 03, 05; Kautz 02; Ng 03, 04; Liu 04; Wang 04, 05; Annen 04, etc.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ar combinations of full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Kristensen 05; Dorsey 91; Debevec 00; etc.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lated Wor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7760" y="1809720"/>
            <a:ext cx="84153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rse samp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Walter 99, 02; Bala 99, 03; Ward 99; Tole 02; Nijasure 03; Gautron 05; Dayal 05; Simmons 01 etc.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/ instant radiosity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Hanrahan 91; Keller 97; Drettakis 97; Christensen 97; Dachsbacher 05, 06; etc.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avelet radiance trans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Kontkanen 06] (concurrent wor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7760" y="1809720"/>
            <a:ext cx="83390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7e300"/>
                </a:solidFill>
                <a:latin typeface="Arial"/>
              </a:rPr>
              <a:t>Key concep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fer matri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precompu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compres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evalu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clusions and Future wor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6858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8415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iew sampl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ather sampl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fer: A large matri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tributions of gather samples to view samp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209680" y="4648320"/>
            <a:ext cx="4143240" cy="1632960"/>
            <a:chOff x="2209680" y="4648320"/>
            <a:chExt cx="4143240" cy="1632960"/>
          </a:xfrm>
        </p:grpSpPr>
        <p:sp>
          <p:nvSpPr>
            <p:cNvPr id="81" name=""/>
            <p:cNvSpPr/>
            <p:nvPr/>
          </p:nvSpPr>
          <p:spPr>
            <a:xfrm>
              <a:off x="2209680" y="4648320"/>
              <a:ext cx="411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i = T d</a:t>
              </a:r>
              <a:endParaRPr b="0" lang="en-US" sz="32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4600" y="5638680"/>
              <a:ext cx="990360" cy="642600"/>
            </a:xfrm>
            <a:prstGeom prst="rect">
              <a:avLst/>
            </a:prstGeom>
            <a:solidFill>
              <a:srgbClr val="004731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direct on view</a:t>
              </a:r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62360" y="5638680"/>
              <a:ext cx="1143000" cy="642600"/>
            </a:xfrm>
            <a:prstGeom prst="rect">
              <a:avLst/>
            </a:prstGeom>
            <a:solidFill>
              <a:srgbClr val="004731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ansfer matrix</a:t>
              </a:r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3960" y="5638680"/>
              <a:ext cx="1218960" cy="642600"/>
            </a:xfrm>
            <a:prstGeom prst="rect">
              <a:avLst/>
            </a:prstGeom>
            <a:solidFill>
              <a:srgbClr val="004731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rect on gather</a:t>
              </a:r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352680" y="5222880"/>
              <a:ext cx="380880" cy="38088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362480" y="5222880"/>
              <a:ext cx="0" cy="38088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4800600" y="5222880"/>
              <a:ext cx="457200" cy="38088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Sampl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828800"/>
            <a:ext cx="6858000" cy="4892760"/>
          </a:xfrm>
          <a:custGeom>
            <a:avLst/>
            <a:gdLst/>
            <a:ahLst/>
            <a:rect l="l" t="t" r="r" b="b"/>
            <a:pathLst>
              <a:path w="4320" h="3082">
                <a:moveTo>
                  <a:pt x="447" y="1200"/>
                </a:moveTo>
                <a:cubicBezTo>
                  <a:pt x="691" y="941"/>
                  <a:pt x="1179" y="65"/>
                  <a:pt x="1484" y="32"/>
                </a:cubicBezTo>
                <a:cubicBezTo>
                  <a:pt x="1789" y="0"/>
                  <a:pt x="1992" y="984"/>
                  <a:pt x="2277" y="1006"/>
                </a:cubicBezTo>
                <a:cubicBezTo>
                  <a:pt x="2562" y="1027"/>
                  <a:pt x="2856" y="65"/>
                  <a:pt x="3192" y="162"/>
                </a:cubicBezTo>
                <a:cubicBezTo>
                  <a:pt x="3527" y="259"/>
                  <a:pt x="4320" y="1243"/>
                  <a:pt x="4290" y="1589"/>
                </a:cubicBezTo>
                <a:cubicBezTo>
                  <a:pt x="4259" y="1935"/>
                  <a:pt x="3110" y="2054"/>
                  <a:pt x="3009" y="2238"/>
                </a:cubicBezTo>
                <a:cubicBezTo>
                  <a:pt x="2907" y="2422"/>
                  <a:pt x="3913" y="2573"/>
                  <a:pt x="3680" y="2692"/>
                </a:cubicBezTo>
                <a:cubicBezTo>
                  <a:pt x="3446" y="2811"/>
                  <a:pt x="2001" y="3082"/>
                  <a:pt x="1606" y="2952"/>
                </a:cubicBezTo>
                <a:cubicBezTo>
                  <a:pt x="1211" y="2822"/>
                  <a:pt x="1481" y="2042"/>
                  <a:pt x="1308" y="1912"/>
                </a:cubicBezTo>
                <a:cubicBezTo>
                  <a:pt x="1135" y="1782"/>
                  <a:pt x="784" y="2227"/>
                  <a:pt x="569" y="2173"/>
                </a:cubicBezTo>
                <a:cubicBezTo>
                  <a:pt x="354" y="2119"/>
                  <a:pt x="41" y="1752"/>
                  <a:pt x="20" y="1589"/>
                </a:cubicBezTo>
                <a:cubicBezTo>
                  <a:pt x="0" y="1427"/>
                  <a:pt x="203" y="1460"/>
                  <a:pt x="447" y="1200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5867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ene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066680" y="52578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809880"/>
            <a:ext cx="2514600" cy="12193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4191120"/>
            <a:ext cx="914400" cy="23619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94" name="Rectangle 3" descr=""/>
          <p:cNvPicPr/>
          <p:nvPr/>
        </p:nvPicPr>
        <p:blipFill>
          <a:blip r:embed="rId1"/>
          <a:stretch/>
        </p:blipFill>
        <p:spPr>
          <a:xfrm rot="2689800">
            <a:off x="3124080" y="3276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21377400">
            <a:off x="4721040" y="6461280"/>
            <a:ext cx="30456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308400">
            <a:off x="5110200" y="6421320"/>
            <a:ext cx="30492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1314400">
            <a:off x="5467320" y="6375240"/>
            <a:ext cx="30492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809200">
            <a:off x="5830920" y="6297120"/>
            <a:ext cx="30492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0798400">
            <a:off x="6227280" y="6211440"/>
            <a:ext cx="30492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5790960" y="5333400"/>
            <a:ext cx="30492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15800">
            <a:off x="6059160" y="5132520"/>
            <a:ext cx="30492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081480" y="4909680"/>
            <a:ext cx="129960" cy="29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678640" y="5410080"/>
            <a:ext cx="264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6310080" y="5962680"/>
            <a:ext cx="82440" cy="33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903640" y="6014520"/>
            <a:ext cx="8244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580000" y="6087960"/>
            <a:ext cx="46080" cy="354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5243400" y="6152760"/>
            <a:ext cx="381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855680" y="6183360"/>
            <a:ext cx="27000" cy="33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209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era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2819520"/>
            <a:ext cx="9907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595944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 sample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400800" y="5409720"/>
            <a:ext cx="1295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324120" y="64771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/>
  <dc:description/>
  <dc:language>en-US</dc:language>
  <cp:lastModifiedBy/>
  <dcterms:modified xsi:type="dcterms:W3CDTF">2006-08-03T13:27:27Z</dcterms:modified>
  <cp:revision>151</cp:revision>
  <dc:subject/>
  <dc:title>Slide 1</dc:title>
</cp:coreProperties>
</file>